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907588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A1FF2-DF5C-4941-93FE-92F771D60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4520" y="421920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C46D8-62EA-4EAC-AF66-4F453B5FF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64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69AA-BE9A-499C-BEC2-27228A810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160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452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160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4EC7C-A711-45CF-AA0B-AA94C4FA2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73356-4EAA-4188-B91B-CCF5B12D1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9B3E-AD59-442B-A79C-CA515DF63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6F08-1DD6-47E2-A20D-090F05DEE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5953-C18E-4FC5-8765-D50403AF0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880" y="1557000"/>
            <a:ext cx="87120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08311-7620-4CBC-A86C-F9D5443F0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C55A-EFD7-4918-934A-4FFAD8557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64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E1F3-46CB-45AE-8DB2-5978E00B1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0D156-D316-4F59-90B5-AA9EE8D41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305" t="913" r="0" b="0"/>
          <a:stretch/>
        </p:blipFill>
        <p:spPr>
          <a:xfrm>
            <a:off x="0" y="-27000"/>
            <a:ext cx="9958320" cy="690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0040" y="62654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A8A55-0973-4A2A-A614-B5B941A07623}" type="slidenum">
              <a:rPr b="1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ga.pl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ga.ru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65440" y="3660840"/>
            <a:ext cx="62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vkxdnkjdjkncvkj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047" t="0" r="0" b="1020"/>
          <a:stretch/>
        </p:blipFill>
        <p:spPr>
          <a:xfrm>
            <a:off x="0" y="-44280"/>
            <a:ext cx="99522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20880" y="4581360"/>
            <a:ext cx="86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potkanie  Kadry Konsultingowe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1488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znań, 14 stycznia 200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7920-3609-45ED-B30F-15170342A75D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31440" y="1557000"/>
            <a:ext cx="849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Zespół standaryzacji – Wicedyrektor (Maciej Skał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2800" y="2363760"/>
            <a:ext cx="30348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21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 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29400" y="2363760"/>
            <a:ext cx="3123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9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14001/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N-N 18001/OH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ACCP/BRC/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17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1080" y="4092480"/>
            <a:ext cx="5045040" cy="25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EFQ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Integracja ISO z 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"/>
              </a:rPr>
              <a:t>Rozwój rodziny oprogramowani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EFQM/DGA EFQM, DGA EKO, DGA BHP, DGA HACC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eksploracja sektora wydobywcz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sektor logistycz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dministracja central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Arial"/>
              </a:rPr>
              <a:t>Sektor małych średnich przedsiębiorstw poprzez spółkę córk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5200" y="4164120"/>
            <a:ext cx="44629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ktor energetyczny/wydobywczy/paliwow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ednostki administracji publicznej/służba zdrow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ałe i średnie przedsiębiorstwa – P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640" y="191628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9897-9580-44BE-9C64-69CFE62E196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31440" y="155700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Zespół Bezpieczeństwa Informacji – Michał Borucki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2800" y="2363760"/>
            <a:ext cx="30348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9400" y="2363760"/>
            <a:ext cx="31237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S 7799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udyt bezpieczeństwa teleinformat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ezpieczeństwo danych osobow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udyty bezpieczeństwa informac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nalizy bezpieczeństwa fiz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61080" y="4092480"/>
            <a:ext cx="5045040" cy="18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Analiza ciągłości dział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Bezpieczna fi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Zdalne testy bezpieczeństwa teleinformat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Stworzenie stałej oferty szkoleniowej dla ryn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Banki, Ubezpieczenia, Korporac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Sektor małych średnich przedsiębiorstw poprzez spółkę córk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Rozwój rodziny oprogramowania DGA Sec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(DGA Secure Audyt, DGA Secure Risk, DGA Secure Continu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1720" y="4164120"/>
            <a:ext cx="3054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Najwięksi operatorzy telekomunikacyj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IT, Windykac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Sektor energetycz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Administracja Państwowa na każdym szczeb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91772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63C62-E3F0-4A65-BCAA-917A18FEFAE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31440" y="191736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3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04880" y="2492280"/>
            <a:ext cx="880416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EFQ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Stała oferta szkol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Oprogramowanie (EFQM, 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ozycjonowanie usług DGA dla największych </a:t>
            </a:r>
            <a:r>
              <a:rPr b="0" lang="pl-PL" sz="1200" spc="-1" strike="noStrike">
                <a:solidFill>
                  <a:srgbClr val="000066"/>
                </a:solidFill>
                <a:latin typeface="Arial"/>
              </a:rPr>
              <a:t>(ORLEN, ALLIANZ, AGORA, KRUS, KGHM, Thom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Arial"/>
              </a:rPr>
              <a:t>Tożsama oferta usług dla małych i średnich przedsiębiorstw poprzez spółkę córk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3. 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arszaw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Katow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Mosk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800" y="1447920"/>
            <a:ext cx="90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– Marcin Zasta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691C3-3926-4FA0-BDC3-A67948E4A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0452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30 (2004), 50 (2005)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Puls Biznesu, prasa specjalistyczna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Tematyczne portale internetowe, publikacje wydawnicze (2)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Własna publlikacja w zakresie bezpieczeństwa informacji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iuletyn informacyjny na www.dga.pl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30 (2004), 20 (2005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2 „duże” konferencje: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3" marL="17146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ezpieczeństwo Informacji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3" marL="17146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EFQM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- brak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31800" y="191772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1447920"/>
            <a:ext cx="90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– Marcin Zasta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1376-3E51-4D4F-B99A-6D93A921307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440" y="1773000"/>
            <a:ext cx="9201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Szef Pionu (Paweł Radziłowski) 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1800" y="2133720"/>
            <a:ext cx="4276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ion DZPiZ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32160" y="620640"/>
            <a:ext cx="4681800" cy="280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4360" y="2492280"/>
            <a:ext cx="90216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odsumowanie wystąpie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rodu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Zatrudnienie obecnie 66 osób, docelowo w 2005 – max.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ynki zbytu są wynikową koncentracji na wysoko-budżetowych projek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Wyodrębniony dział sprze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Sprzedawcy sprzedają wszystkie produkty p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Sprzedawcy przypisani do branż lub region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lany działu sprzedaży pokrywają się z planem departamentów merytory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szty sprzedaży rozliczane na departamenty merytoryczne wg klucza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34120" y="184464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F206C-9B0E-4DA2-878E-CDE102C9325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4880" y="1911240"/>
            <a:ext cx="87120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ion DZiPI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36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maksymalne wykorzystanie technik informatycznych w zakresie obsługi klientów (np. DGA Support, sprzedaż przez internet, workflow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aktywnienie oddziału w Moskwie w zakresie usług i produktów pionu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mocnienie na rynku usług BS7799, workflow, wprowadzenie na rynek: hurtowni danych i biznes portal oraz rozwinięcie nowych produktów: korporacyjnej analizy ryzyka, planów ciągłości, ITIL, EFQM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tworzenie zagranicznej sieci partnerskiej w zakresie oprogramowania i usług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akwizycja podmiotów z zakresu działania pionu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4. Szanse i zagrożenia dla Pionu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Szanse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prowadzenie w DGA modelu „tanich linii lotniczych”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ypromowanie DGA jako firmy realizującej duże projekty konsultingowo-informatyczne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ypełnienie luki kompetencyjnej pomiędzy tradycyjnymi firmami doradczymi i informatycznymi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Zagrożenia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rak jasno sprecyzowanych i zatwierdzonych kierunków rozwoju poszczególnych pionów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Zatrzymanie inwestycji w rozwój produktów pionu oraz akwizycję 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resja na konkurencję cenową za wszelką cenę (brak segmentacji konkurentów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Szef Pionu (Paweł Radziłow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BD679-7545-44CF-9F2E-E5B9E40D893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384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partament Doradztwa Biznes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DE75A-72E4-47F9-B80A-8E895F57AFB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4880" y="1486080"/>
            <a:ext cx="8712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9906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Zespół ds. Fuzji i Przejęć oraz Zespół ds. Wycen i Przekształceń Przedsiębiorstw-Maciej Anteck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9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8160" y="31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816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9040" y="2363760"/>
            <a:ext cx="480888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wyceny i biznes plan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obsługa fuzji i przejęć oraz dezinwestycji kapitałow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doradztwo w zakresie pozyskania kapitał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analizy opłacalności przedsięwzięć inwestycyj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analizy funkcjonowania przedsiębiorstw </a:t>
            </a:r>
            <a:br>
              <a:rPr sz="1300"/>
            </a:b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oraz ich obszarów biznesow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budowa strategii restrukturyzacyjnych oraz obszarowyc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1080" y="4092480"/>
            <a:ext cx="44132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nowe produkty i usług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Value Based Management (VBM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Rating i zarządzanie ryzykiem przedsiębiorstw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Partnerstwo Publiczno-Prywatne (od strony </a:t>
            </a:r>
            <a:br>
              <a:rPr sz="1200"/>
            </a:b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inwestorów prywatnyc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Przedsiębiorstwa komunal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in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wejście na rynek wschodnioeuropejski (Rosja) </a:t>
            </a:r>
            <a:br>
              <a:rPr sz="1200"/>
            </a:b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z produktami ogólnokonsultingowy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6000" y="4164120"/>
            <a:ext cx="39096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nisterstwo Skarbu Państwa,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ednoosobowe spółki Skarbu Państw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zagraniczne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ub o kapitale zagraniczny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sektora energetyczn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ywat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64643-00AA-41E2-B429-1CAFD5C583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1440" y="1483920"/>
            <a:ext cx="871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Zespół ds. Pozyskiwania Funduszy dla Przedsiębiorstw-Damian Bernaciak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31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79280" y="2363760"/>
            <a:ext cx="3706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ygotowanie wniosków aplikacyjn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ygotowanie biznes plan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rządzanie realizacją inwesty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ozliczenia z instytucją wdrażają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4092480"/>
            <a:ext cx="504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RO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WKP Priorytet 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WKP Działanie 2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rzedsiębiorstwa Sektora Żywnościow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Duże przedsiębiorstwa przemysł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towarzysze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rzedsiębiorstwa komu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0160" y="4164120"/>
            <a:ext cx="446544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ywat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ektor MSP (Małe i Średnie Przedsiębiorstw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Duże Przedsiębiorstwa prywat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4309-5944-4CA8-A1E8-38CEF88A8BE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Marek Machnic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 (1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2548080"/>
            <a:ext cx="880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ozszerzenie oferty klasycznych produktów konsulting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Obsługa wszystkich działań wspierających przedsiębiorstwa w ramach programów pomocowych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wiązanie bezpośredniej współpracy z podmiotami sektora finans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ejście na rynek rosyjski z ofertą klasycznych produktów konsulting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arszaw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?)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skwa (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A5E81-FB35-4ACB-A241-025EE65739C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384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partament Doradztwa Zarządczeg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 Produktów Informatyczn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4F3F-E447-4EBD-B3E1-7FFA32A69FE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 (2)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GA – ekspertem w zakresie wyc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VBM, rating i PPP – okazjonalne artykuły w prasie specjalistycznej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 serii artykułów dotyczących możliwości pozyskania wsparcia finansowego dla przedsiębiorstw w ramach programów pomocowych U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artnerstwo Publiczno-Prywat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 współudziału w konferencjach energetycznych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działu i współorganizacji konferencji związanych z programami pomocowymi U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dwyższanie kwalifikacji merytorycznych i menedżerskich konsultant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Marek Machnic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55638-E7EA-42AB-A68C-79EBCE663DE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3680" y="2363760"/>
            <a:ext cx="5299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Wdrożenia systemu DGA Controll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zkolenia i warszt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Audyty controlling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Controllingowe koncepcje funkcjonowania przedsiębiorst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61080" y="4092480"/>
            <a:ext cx="5045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alszy rozwój narzędzia informatycznego DGA Controlling – integracja programów informatycz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ostępujące rozszerzanie rynku i aktywne kształtowanie popy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Nawiązywanie współpracy z firmami informatycznymi dostarczającymi programy finansowo-księgowe. (Ema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60" y="4221000"/>
            <a:ext cx="492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reprezentujące pełen przekrój bran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141300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1371-BBE0-4F6C-AC0D-3BDA3A9D690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7080" y="2548080"/>
            <a:ext cx="880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prac rozwojowych związanych z narzędziem DGA Controlling – modyfikacje i usprawnienia syste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odjęcie prac integracyjnych w ramach programów informatycznych D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ozszerzanie obecnego portfela klientów o nowe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Gdań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A7B94-C6A7-4E79-8123-8523945713F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współpracy z wydawnictwem Infor – „Controlling i rachunkowość zarządcza”, „Rachunkowość finansowa i zarządcza” </a:t>
            </a:r>
            <a:br>
              <a:rPr sz="1800"/>
            </a:b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w obszarze publikacji, organizacji warsztatów i szkoleń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Wydawanie kwartalnika „Biuletyn Informacyjny DF” (druk, internet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współpracy z IIR z siedzibą w Warszawi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ozpoczęcie działań w ramach „Forum Wymiany Wiedzy”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Organizacja ogólnopolskiej konferencji „Forum Controllingowe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3180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8D8E6-486E-4805-B15F-CA794E0CF7A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4880" y="1628640"/>
            <a:ext cx="892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oradztwa Marketingowego - Rafał Wrzeszcz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6600" y="2363760"/>
            <a:ext cx="4426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900" spc="-1" strike="noStrike">
                <a:solidFill>
                  <a:srgbClr val="000066"/>
                </a:solidFill>
                <a:latin typeface="Tahoma"/>
              </a:rPr>
              <a:t>(w zależności od liczby wdrożeń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96200" y="2363760"/>
            <a:ext cx="3729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CRM – Sales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w zakresie obsługi i sprzedaż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plikacje dedyko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61080" y="4113360"/>
            <a:ext cx="50450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CRM – Microsoft C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Dedykowane rozwiązania informatycz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Bankowość, Serwis, Przemysł, </a:t>
            </a:r>
            <a:r>
              <a:rPr b="0" i="1" lang="en-GB" sz="1400" spc="-1" strike="noStrike">
                <a:solidFill>
                  <a:srgbClr val="000066"/>
                </a:solidFill>
                <a:latin typeface="Tahoma"/>
              </a:rPr>
              <a:t>Utilities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wdrożenia pilotażowe (ENEA, ZEW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- Partnerstwo z 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4164120"/>
            <a:ext cx="3764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kłady Energetycz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oduk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F25A-B1F7-4DE1-8882-45C8ADD621A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31440" y="1915920"/>
            <a:ext cx="820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oradztwa Strategiczn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680" y="2363760"/>
            <a:ext cx="49428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strategiczne (analizy otoczenia rynkowego oraz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diagnozy sytuacji wewnętrznej podmiotów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lany restrukturyzacji i reorga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koncepcje funkcjonowania podmio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rozwoju, strategie prywaty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drażanie strategii zgodnie z metodologią ZKW (B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5800" y="4164120"/>
            <a:ext cx="432144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nisterstwo Skarbu Państw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SSP (głównie Zakłady Energetyczn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uże i średnie podmioty z innych branż –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o różnym statusie własnościowym (gazownictwo,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transport i logistyka, zbrojeniówka, firmy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wodociągow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092480"/>
            <a:ext cx="5045040" cy="20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kompleksowe doradztwo zarządcze (projekty pod klucz w ramach długofalowego doradzt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firmy na rynku rosyjskim (głównie z branży</a:t>
            </a:r>
            <a:br>
              <a:rPr sz="1400"/>
            </a:b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 energetyczne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ne -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artnerstwo z doświadczonymi, zagranicznymi firmami doradztwa strategicznego – np.. DROEGE&amp;Comp.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Rafał Oleszkiewicz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D64C-3D55-4F1D-AE5B-8AAE7543E8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6360" y="1125360"/>
            <a:ext cx="92008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oradztwo Strategiczne  - Jacek Musiał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41440" y="1644480"/>
            <a:ext cx="9524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mercjalizacja” inwestycji z ubiegłego roku i nowe modele działania w poszczególnych obszar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praca z dostawcami narzędzi klasy ERP – narzędzia DGA BSC, DGA Controlling, DGA CRM – jako narzędzia usprawniające procesy zarządc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ozwój usług konsultingowych w kierunku rozwiązań aplikacyjnych (niekoniecznie informatycznych) – łączenie koncepcji z wdrożeniem. Zmiana modelu biznesowego ze 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przedaży koncepcji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na 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przedaż rozwiązania z wdrożeniem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(success fee). Współpraca strategiczna np. z DROEGE (Niemc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mocnienie pozycji w energetyce – restrukturyzacja po konsolidacji – sza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ejście w segment klientów prywatnych – krajowe firmy o dużej dynamice wzros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ocne wejście na rynek rosyjski, zwłaszcza w branżę energetycz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Lokalizacja Konsulta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znań, Moskwa (II/III kwartał 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I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yraźne oddzielenie funkcji rozwojowych od produkcji (zwiększenie odpowiedzialności Szefów Zespołów i konsultant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przedaż zorientowana produkto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491CB-9797-45DD-8132-E590E8F3440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31440" y="2389320"/>
            <a:ext cx="9705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Artykuły w prasie specjalistycznej dla określonych produk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ypowiedzi eksperckie w prasie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omocja (zwłaszcza produktów informatycznych) przez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ga.pl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oraz Internet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Organizacja konferencji własnych promujących kilka produktów, wraz z wystąpieniami klien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organizowanie konferencji ze znaczącymi partnerami (np. MICROSOFT, EMAX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większenie skuteczności sprzedaży,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intensyfikowanie współpracy z partnerami strategicznymi – uzyskanie wymiernych efek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inimalizacja ryzyka związanego z rozwojem produktów informatycznych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20720" y="1701720"/>
            <a:ext cx="9201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oradztwo Strategiczne  - Jacek Musia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F374-6FD4-4C0D-B76B-19FC7566E4DA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60520" y="1628280"/>
            <a:ext cx="9345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epartament Projektów Zagranicznych – Zbyszek Dutkiewicz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800" y="2363760"/>
            <a:ext cx="303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0160" y="2363760"/>
            <a:ext cx="46627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anżacja finansowania dla zawartych kontrak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OCENA RYZYKA TRANSAK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STRUKTURYZACJA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OBÓR INSTYTUCJI FINANS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WYBÓR OF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ADZÓR PRZEBIEGU TRANSAK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1080" y="4092480"/>
            <a:ext cx="50450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9760" y="4164120"/>
            <a:ext cx="4112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irmy prowadzące (rozpoczynające) działal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graniczną w zakres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)  inwestycji bezpośred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)  kupna / sprzedaży dóbr inwestycyj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9204-E18A-44F7-A294-0D6BCEC866B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31800" y="1628640"/>
            <a:ext cx="88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99360" y="2205000"/>
            <a:ext cx="7830360" cy="3841560"/>
            <a:chOff x="999360" y="2205000"/>
            <a:chExt cx="7830360" cy="3841560"/>
          </a:xfrm>
        </p:grpSpPr>
        <p:sp>
          <p:nvSpPr>
            <p:cNvPr id="219" name="_s101381"/>
            <p:cNvSpPr/>
            <p:nvPr/>
          </p:nvSpPr>
          <p:spPr>
            <a:xfrm flipH="1" flipV="1">
              <a:off x="3350520" y="3576960"/>
              <a:ext cx="784800" cy="3121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1382"/>
            <p:cNvSpPr/>
            <p:nvPr/>
          </p:nvSpPr>
          <p:spPr>
            <a:xfrm>
              <a:off x="1574640" y="2769840"/>
              <a:ext cx="1995120" cy="997200"/>
            </a:xfrm>
            <a:prstGeom prst="ellipse">
              <a:avLst/>
            </a:prstGeom>
            <a:solidFill>
              <a:srgbClr val="a8c9c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prowadzanie polskich firm na nowe rynki zbyt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1383"/>
            <p:cNvSpPr/>
            <p:nvPr/>
          </p:nvSpPr>
          <p:spPr>
            <a:xfrm flipH="1">
              <a:off x="2966040" y="4310280"/>
              <a:ext cx="978480" cy="1123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1384"/>
            <p:cNvSpPr/>
            <p:nvPr/>
          </p:nvSpPr>
          <p:spPr>
            <a:xfrm>
              <a:off x="999360" y="4035600"/>
              <a:ext cx="1995120" cy="997200"/>
            </a:xfrm>
            <a:prstGeom prst="ellipse">
              <a:avLst/>
            </a:prstGeom>
            <a:solidFill>
              <a:srgbClr val="96b3b6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Arial"/>
                </a:rPr>
                <a:t>Łącznie partnerów zagranicznych „business matching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1385"/>
            <p:cNvSpPr/>
            <p:nvPr/>
          </p:nvSpPr>
          <p:spPr>
            <a:xfrm flipH="1">
              <a:off x="4047480" y="4646880"/>
              <a:ext cx="433440" cy="4525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1386"/>
            <p:cNvSpPr/>
            <p:nvPr/>
          </p:nvSpPr>
          <p:spPr>
            <a:xfrm>
              <a:off x="2620080" y="5049360"/>
              <a:ext cx="1995120" cy="997200"/>
            </a:xfrm>
            <a:prstGeom prst="ellipse">
              <a:avLst/>
            </a:prstGeom>
            <a:solidFill>
              <a:srgbClr val="9fbfc1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ganizacja inwestycyjnym na rynkach wschodn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1387"/>
            <p:cNvSpPr/>
            <p:nvPr/>
          </p:nvSpPr>
          <p:spPr>
            <a:xfrm>
              <a:off x="5343480" y="4646880"/>
              <a:ext cx="438120" cy="4510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1388"/>
            <p:cNvSpPr/>
            <p:nvPr/>
          </p:nvSpPr>
          <p:spPr>
            <a:xfrm>
              <a:off x="5216760" y="5049360"/>
              <a:ext cx="1994400" cy="997200"/>
            </a:xfrm>
            <a:prstGeom prst="ellipse">
              <a:avLst/>
            </a:prstGeom>
            <a:solidFill>
              <a:srgbClr val="adcfd2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moc w wykorzystaniu programów oraz środków UE przez firmy z obszaru FR i S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1389"/>
            <p:cNvSpPr/>
            <p:nvPr/>
          </p:nvSpPr>
          <p:spPr>
            <a:xfrm>
              <a:off x="5882400" y="4310280"/>
              <a:ext cx="978480" cy="1105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1390"/>
            <p:cNvSpPr/>
            <p:nvPr/>
          </p:nvSpPr>
          <p:spPr>
            <a:xfrm>
              <a:off x="6834600" y="4034160"/>
              <a:ext cx="1995120" cy="9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przedaż produktów DGA SA na rynkach wschodn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1391"/>
            <p:cNvSpPr/>
            <p:nvPr/>
          </p:nvSpPr>
          <p:spPr>
            <a:xfrm flipV="1">
              <a:off x="5689440" y="3575880"/>
              <a:ext cx="784080" cy="3135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1392"/>
            <p:cNvSpPr/>
            <p:nvPr/>
          </p:nvSpPr>
          <p:spPr>
            <a:xfrm>
              <a:off x="6257160" y="2768400"/>
              <a:ext cx="1994400" cy="9972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Świadczenie usług dla firm z obszaru UE oraz FR i SNG z zakresu prawno-księgowe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1393"/>
            <p:cNvSpPr/>
            <p:nvPr/>
          </p:nvSpPr>
          <p:spPr>
            <a:xfrm flipV="1">
              <a:off x="4911840" y="3200400"/>
              <a:ext cx="0" cy="5014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1394"/>
            <p:cNvSpPr/>
            <p:nvPr/>
          </p:nvSpPr>
          <p:spPr>
            <a:xfrm>
              <a:off x="3915720" y="2205000"/>
              <a:ext cx="1995120" cy="997200"/>
            </a:xfrm>
            <a:prstGeom prst="ellipse">
              <a:avLst/>
            </a:pr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prowadzanie firm z obszaru FR i SNG na rynek U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1395"/>
            <p:cNvSpPr/>
            <p:nvPr/>
          </p:nvSpPr>
          <p:spPr>
            <a:xfrm>
              <a:off x="3915720" y="3702600"/>
              <a:ext cx="1995120" cy="9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99"/>
                  </a:solidFill>
                  <a:latin typeface="Arial"/>
                </a:rPr>
                <a:t>Departament Projektów Zagraniczny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AE07-92E7-4078-B6A8-B2C54F98640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Business Intelligence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9cc00"/>
                </a:solidFill>
                <a:latin typeface="Tahoma"/>
              </a:rPr>
              <a:t>Zespół Konsultingu Informatycznego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/Zespół Business Intelligence  (Wojtek Pozarzycki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2880" y="371628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524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524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4560" y="2363760"/>
            <a:ext cx="5163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Przygotowanie do wdrożenia systemów informatycz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Audyt Informatycz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Hurtownia Da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Umowy partnerskie: Business Objects, Oracle, 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3716280"/>
            <a:ext cx="504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ystemy Business Intellig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Business Portal (portal korporacyjny na WebSphere IB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Zarządzanie Kosztami i Organizacją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telekom, energetyka, ubezpieczenia, fina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inne: rozwój kompetencji w zakresie systemów: ORACLE, BUSINESS OBJECTS, IBM WEB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8880" y="3860640"/>
            <a:ext cx="3979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średnie i duże przedsiębiors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(ZEC Łódź, Rolimpex, Cenos, Pomorska Spółka Gazownictwa Sp. z o.o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administracja publ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(PARP, ZU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02D5-423F-4029-B64C-A7D660F4CB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31440" y="1628640"/>
            <a:ext cx="870588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2. Działania marketingow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dział w imprezach wystawienniczych i konferencjach branżowych w FR i SNG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tworzenie strony internetowej </a:t>
            </a:r>
            <a:r>
              <a:rPr b="0" lang="pl-PL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ga.ru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z uwzględnieniem specyfiki rynków wschodnich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tworzenie internetowej platformy informacyjnej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dział w misjach gospodarczych organizowanych przez WEH do regionów FR i SNG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ropagowanie marki DGA SA w Izbach Gospodarczych z krajów wschodnich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głoszenie DGA do rankingów firm konsultingowych w FR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3. Lokalizacja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Warszawa i Moskw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4. Nowi Klienci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Przedsiębiorstwa i instytucje z terytorium FR i S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5. Nowe firmy współpracujące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Instytucje finansowe z Niemiec 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(np. Bankgesellschaft Berli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79B5-6A6D-4409-B105-4A991FE851C3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2880" y="1550880"/>
            <a:ext cx="87123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Waldemar Przybył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92012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oradztwo Biznesow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04880" y="2421000"/>
            <a:ext cx="902160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odsumowanie wystąpień Szefów Departamen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odukty- Corporate Finance, Doradztwo Strategiczne i wdrażanie rozwiązań informatycznych (DGA BSC, DGA - Controling, DGA - CRM), UE dla firm, Produkty związane z finansowaniem działalnośc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atrudnienie – 50 osó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ynki zbytu – średnie i duże przedsiębiorstwa krajowe, przedsiębiorstwa zagraniczne działające w Polsce, Ros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ziały sprzedaży przypisane dyrektorom departament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atrudnienie: 7 osób (1 osoba-Moskw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przedaż produktowa z silnym naciskiem na markę DG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naczący udział konsultantów merytorycznych w pozyskiwaniu zlec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4002-A67B-4CD1-8E42-915D75F0F96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49080" y="2460240"/>
            <a:ext cx="9056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Aktywizacja Moskwy w zakresie realizacji produktów DGA na rynku WNP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solidacja wewnątrz Pionu produktów informatycznych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odel świadczenia usług w oparciu o success fee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praca ze spółkami grupy DGA oraz partnerami strategicznymi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zanse i zagrożenia dla Pionu w 2005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66"/>
                </a:solidFill>
                <a:uFillTx/>
                <a:latin typeface="Tahoma"/>
              </a:rPr>
              <a:t>Szanse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ilny zespół konsultan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reujące się nowe rynki zbytu w Rosji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zygotowane do sprzedaży nowe produkty informatyczne wspierające rozwiązania</a:t>
            </a:r>
            <a:br>
              <a:rPr sz="1600"/>
            </a:b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biznesow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66"/>
                </a:solidFill>
                <a:uFillTx/>
                <a:latin typeface="Tahoma"/>
              </a:rPr>
              <a:t>Zagrożenia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Czynnik polityczny (wybory w Polsce, relacje polityczne Polska-Rosja)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łaba współpraca pomiędzy pionami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yzyko związane z budową aplikacji własnych DGA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" y="1484280"/>
            <a:ext cx="8712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Waldemar Przybył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4880" y="1955880"/>
            <a:ext cx="92012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oradztwo Biznes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7205C-21C5-4BD3-AD00-D11B94F3FAFB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30384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nia Europej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D07E-CF05-4371-BF1F-EAF3C4E8321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Marcin Ługawiak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94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s. Analiz i Strategii Lokalnych i Regionalny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9440" y="2363760"/>
            <a:ext cx="4579920" cy="22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rozwoju lokalnego/gospodarcz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lany Rozwoju Lok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okalne Programy Rewitaliz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rynku pracy, sytuacji społeczno-gospodarcz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wiatów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61080" y="4092480"/>
            <a:ext cx="504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trategie rozwoju regi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Strategie rozwoju turystyki, plany promocji miast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artnerstwa Publiczno-Prywat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szerzenie rynku obecnych klientów o nowe wojewódz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2720" y="4164120"/>
            <a:ext cx="369252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ro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iast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ank Świat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402F-0A45-4F6A-933F-FBB1794A73E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Maja Pasie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Projektów Infrastrukturalnych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17720" y="2363760"/>
            <a:ext cx="53208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nioski oraz studia wykonalności projektów finansowa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  EFRR (ZPORR, SPO-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61080" y="4092480"/>
            <a:ext cx="504504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tudia wykonalności dla projektów finansowanych z Funduszu Spójności  i z Inicjatywy Wspólnotowej INTER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- Związki i Stowarzyszenia Gmin i Powia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200" y="4164120"/>
            <a:ext cx="3603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 Urzędy  Miast, Gmin oraz ich jednostk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 Starostwa Powiatowe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raz ich jednostk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, Wojewódzki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afi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nstytucje kultur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czelnie wyżs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1B4A-7D4D-4D55-87BD-7515A27884F7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Adrianna Siemionek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6912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entrum Przygotowania i Nadzorowania Inwestycj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32840" y="2363760"/>
            <a:ext cx="499176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ełnienie funkcji Inżyniera Kontra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pracowania analityczne z zakresu ochrony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Techniczne i Technolog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61080" y="4092480"/>
            <a:ext cx="50450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zwolenia Zintegro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zwolenia wodno-pra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ogramy Ochrony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Firmy, Wojewódz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6120" y="4164120"/>
            <a:ext cx="1791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Gm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BA128-FD5D-48D6-96E6-5D1EDBA4E531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Anna Kosmała-Zarzyc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427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Projektów Społeczny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9440" y="2363760"/>
            <a:ext cx="5116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pracowywanie projektów finansowanych ze środków EFS (SPO RZL, EQUAL) w zakresie integracji społecznej i rynku pracy, zjawisk marginalizacji i wyrównywania sz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rządzanie projektami o tematyce społ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61080" y="4005360"/>
            <a:ext cx="504504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zygotowanie projektów społecznych na Ukrainie i w Ros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zygotowywanie wniosków na zlecenia zewnętr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doradztwo dla powstających podmiotów socjal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szerzenie rynku obecnych klien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720" y="4164120"/>
            <a:ext cx="383544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Urzędy Miast, Gmin oraz ich jednostki 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rostwa Powiatowe oraz ich jednostki organiz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, Wojewódzk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czelnie wyżs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e pozarzą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ubliczne Instytucje Rynku 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ubliczne Instytucje Pomocy Społeczn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274F3-ADA0-4829-983E-ED04DE24CEB4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Żub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jektów Europejski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57080" y="2548080"/>
            <a:ext cx="88045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nastawienie na duże projekty w każdym z zespołów m.in. Inicjatywa Wspólnotowa INTERREG, Europejski Fundusz Społeczny, Inżynier Kontraktu, EQUAL, PPP, projekty zagran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r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ładze regionalne w Europie Zachodniej (Hiszpania, Francja, Wielka Brytan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inisterstwa i Instytucje wdrażające projekty finansowane ze środków Unii Europejskiej na Ukrainie i w Ros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arsz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zcze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2EFD-9E61-4B11-9080-4A1D847F22A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jektów Europejskich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rtykuły prasowe, publikacje książkowe, audycje radiowe i telewizyj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kazywanie informacji o wygranych projektach oraz o sukcesach związanych z ich realizacją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rtykuły tematyczne z zakresu polityki regionalnej UE i polityki społecznej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a cyklu konferencji i warsztatów we współpracy z SGiP Wielkopolski, w tym promocja PPP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a spotkań z przedstawicielami samorządów „śniadania samorządowe”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dział we wszystkich znaczących wydarzeniach samorządow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ezentacja projektów na konferencjach z zakresu Europejskiego Funduszu Społeczneg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ezentacje na temat realizowanych projektów na konferencjach krajowych i międzynarodow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sparcie realizowanych projektów w zakresie obsługi prawno-rozliczeniowej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63180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Żub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4431-3EB1-437C-896D-B27E653A185E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Business Intelligenc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 po jednym artykule na kwartał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I Kongres Business Intelligence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VI Konferencja Użytkowników Business Object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owoczesna Elektrociepłownia” (Business Objects w ZEC –Ł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dbudowa potencjału zespołu pozwalająca zrealizować zakładaną sprzedaż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Wojtek Pozarzyc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7F26B-F61A-4F05-997F-28184FFB642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Joanna Hejft – Wolska i Olga Hołoga 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427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entrum Rozwoju Kad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2680" y="2363760"/>
            <a:ext cx="527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budowanie programów szkoleniowych dofinansowanych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 EFS (diagnozowanie potrzeb szkoleniowych, projektowanie,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arządzani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komercyjne pisanie wniosków o dofinansowanie szkoleń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 EFS dla innych firm szkoleniow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rganizacja szkoleń komercyjny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Kompleksowe programy outplamentu dla firm restrukturyzowanych.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61080" y="4005360"/>
            <a:ext cx="5045040" cy="21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pozyskiwanie projektów finansowanych z innych źródeł niż fundusze struktural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stworzenie portalu do badania potrzeb szkoleniow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wdrożenie systemu oceny efektywności  szkole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stworzenie strategii specjalizacji w obszarze szkole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infrastruktura szkoleniow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nowi Klien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wykorzystanie MS Project i metodyk zarządzania projektami stosowanych w 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7000" y="4076640"/>
            <a:ext cx="4464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uże firmy planujące wdrożenie kompleksowych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ogramów szkoleni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EnergiaP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mica Wronk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hilip Morr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cop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irmy szkoleniowe aplikujące o dofinansowanie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ojekt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dministracja samorządowa (WUP-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CD0D-B2D7-4E34-A3D0-E865C2478154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Łuś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Rozwoju Zasobów Ludzki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757080" y="2548080"/>
            <a:ext cx="8804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rodukty spółek córek uzupełnieniem katalogu produktów CRK : Meurs - testy kompetencyjne; PIKW - szkolenia audytorów (nowe zupełnie szkolenia na Kierownika projektu finansowanego z UE – kreujemy nowy zawó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parte o narzędzia informatyczne produkty do badania potrzeb szkoleniowych i monitorujące efekty szkol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drażanie projektów Phare w krajach kandydujących do 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uże firmy wdrażające kompleksowe projekty szkoleniowe i doradcze w zakresie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nstytucje samorządowe – szkolenia z zarządzania projektami europejski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zna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rsza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4E7BD-C8AD-4EB5-B6D5-3CCE83C63620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Rozwoju Zasobów Ludzkich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ersonel i Zarządzani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uls Biznesu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Gazeta Samorządo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ktywny udział w sieciach międzynarodowych (MACONET, EURONET)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ongres HR - Warsza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potkanie członków Polskiego Stowarzyszenia Zarządzania Kadram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argi firm szkoleniowych - Warsza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Uznanie CRK jako szansy na wejście w nowe obszary w firmach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szkolenia, doradztwo personalne) dla wszystkich Pion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631800" y="1484280"/>
            <a:ext cx="8712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Łu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E4D0-58E6-4739-8168-29E3920AA700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Anna Szymańs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04880" y="1988640"/>
            <a:ext cx="4276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ion Integracji Europejskiej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2276640"/>
            <a:ext cx="90216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Podsumowanie wystąpień Szefów Departament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roduk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Zatrudnienie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n na dzień 13/01/05 -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37 osób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stan na dzień 31/12/05 -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51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osó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Rynki zbytu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lska, projekty międzynar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ahoma"/>
              </a:rPr>
              <a:t>FORMUŁA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rzetargi                /    konkursy                      / zlecenia komer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ahoma"/>
              </a:rPr>
              <a:t>ORGANIZACJA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dpowiedź na ogłoszenie   /   budowanie projektów w oparciu  / aktywizacja indywidua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                                        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aktywizacja indywidualna                   o konsorc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-     IN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ferty = często pro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065240" y="2852640"/>
          <a:ext cx="7848720" cy="1203480"/>
        </p:xfrm>
        <a:graphic>
          <a:graphicData uri="http://schemas.openxmlformats.org/drawingml/2006/table">
            <a:tbl>
              <a:tblPr/>
              <a:tblGrid>
                <a:gridCol w="1079640"/>
                <a:gridCol w="6769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Z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cencje na szkol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GA – firma szkoleniowa z własnym produk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pleksowe doradztwo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udowanie projekt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pleksowa obsługa jednostek w oparciu o silne zespoły merytorycz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567360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0A6E6-447F-45A0-AD77-8D3B58C3303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4880" y="1911240"/>
            <a:ext cx="87120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ion Integracji Europejskiej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936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nowe Spółki Córk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sadowienie Pionu Integracji Europejskiej w Warszawie i ewentualnie w Szczecini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zanse i zagrożenia dla Pionu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zans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zespół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łączenie kompetencji (doradztwo + zarządzanie + historia + potencjał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ostępne środki pomocowe w kraju i zagranicą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Zagrożeni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ługa i trudna formuła pozyskiwania zleceń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brak ostatecznych uregulowań dotyczących rozliczeń projekt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bardzo duża konkurencja wśród firm z historią (szkolenia, projekty inżynieryjne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Anna Szymań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5D77C-EAF5-4710-988E-10ECD374E9A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208080" y="-100080"/>
            <a:ext cx="10160280" cy="70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3" name=""/>
          <p:cNvGraphicFramePr/>
          <p:nvPr/>
        </p:nvGraphicFramePr>
        <p:xfrm>
          <a:off x="1251000" y="2766960"/>
          <a:ext cx="1368360" cy="12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1000" y="2766960"/>
                    <a:ext cx="13683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5" name=""/>
          <p:cNvSpPr/>
          <p:nvPr/>
        </p:nvSpPr>
        <p:spPr>
          <a:xfrm>
            <a:off x="776160" y="4581360"/>
            <a:ext cx="91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972"/>
                </a:solidFill>
                <a:latin typeface="Tahoma"/>
              </a:rPr>
              <a:t>Serdecznie dziękuję za udział w prezentacji i wysłuch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75D5-A7B1-460A-868D-0E00370D3385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Robert Rawec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792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Systemów Projektowani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29400" y="2363760"/>
            <a:ext cx="3123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1080" y="4092480"/>
            <a:ext cx="504504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Narzędzia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ynek konsultingow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Rynek rumuński i rosyj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ektor ba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integracja produktów w ramach inwesty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6120" y="4164120"/>
            <a:ext cx="1791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KGH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ING Bank Śląs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EnergiaPr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Ch U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Ś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D8B9-B248-46DF-98F3-D36E3C8305B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76000" y="16999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66"/>
                </a:solidFill>
                <a:latin typeface="Tahoma"/>
              </a:rPr>
              <a:t>Zespół Systemów Zarządzania Informacją Elektroniczną (Kajetan Rogalski)</a:t>
            </a: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1480" y="2363760"/>
            <a:ext cx="5326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Urzą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odzina produktów Lotus (Workflow, Archiwum, Kancela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61080" y="4092480"/>
            <a:ext cx="504504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DGA Archiw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obecni klienci D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administracja publ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Integracja oprogramowania DGA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ozwój produk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9000" y="4164120"/>
            <a:ext cx="33426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rząd Miasta Pozn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ani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Z Cus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rząd Miasta Kosz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akłady Chemiczne Luboń Sp. z o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Centralny Instytut Ochrony 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MPWiK Wrocł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6741B-ABA9-440C-938C-BDAE50E5736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04520" y="1699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Zespół Systemów Analizy Informacji (Andrzej Tuchołk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29400" y="2363760"/>
            <a:ext cx="3123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1080" y="4092480"/>
            <a:ext cx="50450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Zarządzanie projekt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Rozwój linii 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firmy konsulting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klienci innych firm konsulting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rozszerzenie oferty produktowej dla obecnych klien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integracja produkt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6120" y="4164120"/>
            <a:ext cx="1791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Cemet, Aqu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Belma, Krakodl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ELTUR, 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CBC, UOK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C9CC-12C4-4908-9811-6549211C213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73600" y="5300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13240" y="5300640"/>
            <a:ext cx="657360" cy="984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Marcin Makows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800" y="1988640"/>
            <a:ext cx="7129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duktów Informatycznych (1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048520" y="2708280"/>
            <a:ext cx="1086120" cy="127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7080" y="2548080"/>
            <a:ext cx="88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1. 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ystem zarządzania projek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ealizacja inwestycji związanej z integracją produktów 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ystemy zarządzania infrastrukturą informatycz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0520" y="5445000"/>
            <a:ext cx="88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3. 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sk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0520" y="3716280"/>
            <a:ext cx="880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2. 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lienci w zakresie produktów informatycznych 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lienci działów merytorycznych DGA 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lienci partnerów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65600" y="5300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24520" y="5445000"/>
            <a:ext cx="657000" cy="98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57960" y="5516640"/>
            <a:ext cx="65700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816520" y="5516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9240" y="3860640"/>
            <a:ext cx="1195560" cy="15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DB3DE-3C92-476A-AC41-7AA0F9A364C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4880" y="191592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duktów Informatycznych (2)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4520" y="4581000"/>
            <a:ext cx="6264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5. Tematy wymagające sanacji: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trudnienie osób do pracy nad integracją produktów informatyczn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stalenie zakresu współpracy z innymi zespołami I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kreślenie zakresu odpowiedzialności za produkty informatyczne zespołów merytorycznych w ramach DGA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97600" y="4508640"/>
            <a:ext cx="2879640" cy="191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Marcin Makow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8160" y="2421000"/>
            <a:ext cx="6120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4. Akcje promo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ruchomienie strony wsparcia dla klientów i partnerów, w tym sprzedaż oprogramowania przez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ailing do zagranicznych firm konsulting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ziałalność w ramach stowarzyszenia XPr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2160" y="2492280"/>
            <a:ext cx="14400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67136-B69C-48DE-86EC-974D12C6BF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8:25:45Z</dcterms:created>
  <dc:creator>b_szefer</dc:creator>
  <dc:description/>
  <dc:language>en-US</dc:language>
  <cp:lastModifiedBy>a_czub</cp:lastModifiedBy>
  <dcterms:modified xsi:type="dcterms:W3CDTF">2005-01-19T12:05:00Z</dcterms:modified>
  <cp:revision>29</cp:revision>
  <dc:subject/>
  <dc:title>Slajd 1</dc:title>
</cp:coreProperties>
</file>