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</p:sldIdLst>
  <p:sldSz cx="9907588" cy="6858000"/>
  <p:notesSz cx="6624638" cy="98107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48694-99AF-46E1-BAB1-D1A4168A1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8705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704520" y="4219200"/>
            <a:ext cx="8705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CEA7-2B23-432F-91F2-9D5EF359F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70452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16564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0918-6372-4F63-9116-D7D6ADBF4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47880" y="213372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91600" y="213372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704520" y="421920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47880" y="421920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91600" y="4219200"/>
            <a:ext cx="28029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A2A8-4A33-4686-8E52-E8271AA8FF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704520" y="21337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82CE-CB24-4050-8CD2-7BC190B5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752-0FD5-481C-9EBD-EDD60534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2CE1C-2CC2-4A61-B0D8-7997C8809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D4B4-ED7C-4535-BD6D-E026F8FAC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04880" y="1557000"/>
            <a:ext cx="8712000" cy="236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945F4-F515-4D2D-91AB-8B4FE212C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70452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2C1F-7460-4702-85E0-536FC315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165640" y="421920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3B4E3-657B-4C39-9973-269861D22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70452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640" y="2133720"/>
            <a:ext cx="424836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704520" y="4219200"/>
            <a:ext cx="8705880" cy="19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3E828-B68F-4B1F-87FD-ADD7DB12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1305" t="913" r="0" b="0"/>
          <a:stretch/>
        </p:blipFill>
        <p:spPr>
          <a:xfrm>
            <a:off x="0" y="-27000"/>
            <a:ext cx="9958320" cy="69026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Click to edit the title text format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04520" y="21337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Click to edit the outline text format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cond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66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000066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95360" y="6244920"/>
            <a:ext cx="2311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384360" y="6244920"/>
            <a:ext cx="31366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0040" y="6265440"/>
            <a:ext cx="23115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pl-P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F2453-D624-455F-A65B-A489C9446D78}" type="slidenum">
              <a:rPr b="1" lang="pl-P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dga.pl/" TargetMode="External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hyperlink" Target="http://www.dga.ru/" TargetMode="External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42680" y="2130120"/>
            <a:ext cx="84200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85720" y="3886200"/>
            <a:ext cx="69339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4" name=""/>
          <p:cNvSpPr/>
          <p:nvPr/>
        </p:nvSpPr>
        <p:spPr>
          <a:xfrm>
            <a:off x="1765440" y="3660840"/>
            <a:ext cx="628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vkxdnkjdjkncvkj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rcRect l="2047" t="0" r="0" b="1020"/>
          <a:stretch/>
        </p:blipFill>
        <p:spPr>
          <a:xfrm>
            <a:off x="0" y="-44280"/>
            <a:ext cx="9952200" cy="692928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920880" y="4581360"/>
            <a:ext cx="86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Spotkanie  Kadry Konsultingowej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0" y="6014880"/>
            <a:ext cx="990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oznań, 14 stycznia 2005</a:t>
            </a:r>
            <a:r>
              <a:rPr b="1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A75BD-8E85-41F5-A568-F3EABBB7AB4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31440" y="1557000"/>
            <a:ext cx="849636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Zespół standaryzacji – Wicedyrektor (Maciej Skał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52800" y="2363760"/>
            <a:ext cx="30348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21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30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 1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    </a:t>
            </a: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829400" y="2363760"/>
            <a:ext cx="312372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SO 9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SO 14001/EM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N-N 18001/OHS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HACCP/BRC/IF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SO 1702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861080" y="4092480"/>
            <a:ext cx="5045040" cy="26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przychód planowany – 4,0 ml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nowe produk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EFQ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Integracja ISO z Workf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"/>
              </a:rPr>
              <a:t>Rozwój rodziny oprogramowania DG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Arial"/>
              </a:rPr>
              <a:t>(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EFQM/DGA EFQM, DGA EKO, DGA BHP, DGA HACCP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nowi Klienc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eksploracja sektora wydobywcz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sektor logistycz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dministracja centraln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Arial"/>
              </a:rPr>
              <a:t>Sektor małych średnich przedsiębiorstw poprzez spółkę córk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5200" y="4164120"/>
            <a:ext cx="4462920" cy="22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ektor energetyczny/wydobywczy/paliwow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jednostki administracji publicznej/służba zdrow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ałe i średnie przedsiębiorstwa – PAR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47640" y="1916280"/>
            <a:ext cx="9201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9779A-D9AD-482F-A25D-386D3565B8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31440" y="155700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Zespół Bezpieczeństwa Informacji – Michał Borucki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2800" y="2363760"/>
            <a:ext cx="3034800" cy="16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500" spc="-1" strike="noStrike">
                <a:solidFill>
                  <a:srgbClr val="000066"/>
                </a:solidFill>
                <a:latin typeface="Tahoma"/>
              </a:rPr>
              <a:t>   3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829400" y="2363760"/>
            <a:ext cx="3123720" cy="170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BS 7799-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udyt bezpieczeństwa teleinformaty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bezpieczeństwo danych osobowy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udyty bezpieczeństwa informacj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analizy bezpieczeństwa fizy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861080" y="4092480"/>
            <a:ext cx="5045040" cy="20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przychód planowany – 3 mln,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Analiza ciągłości działani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Bezpieczna fir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Zdalne testy bezpieczeństwa teleinformatyczne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Stworzenie stałej oferty szkoleniowej dla rynk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Banki, Ubezpieczenia, Korporacj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000" spc="-1" strike="noStrike">
                <a:solidFill>
                  <a:srgbClr val="000066"/>
                </a:solidFill>
                <a:latin typeface="Tahoma"/>
              </a:rPr>
              <a:t>Sektor małych średnich przedsiębiorstw poprzez spółkę córk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Rozwój rodziny oprogramowania DGA Secur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(DGA Secure Audyt, DGA Secure Risk, DGA Secure Continuit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31720" y="4164120"/>
            <a:ext cx="3054600" cy="17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Najwięksi operatorzy telekomunikacyjn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IT, Windykacj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Sektor energetyczn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000" spc="-1" strike="noStrike">
                <a:solidFill>
                  <a:srgbClr val="000066"/>
                </a:solidFill>
                <a:latin typeface="Tahoma"/>
              </a:rPr>
              <a:t>Administracja Państwowa na każdym szczebl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640" y="1917720"/>
            <a:ext cx="9201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CF38-04DF-4419-9746-F346A4A6728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631440" y="191736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3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0" name=""/>
          <p:cNvSpPr/>
          <p:nvPr/>
        </p:nvSpPr>
        <p:spPr>
          <a:xfrm>
            <a:off x="704880" y="2492280"/>
            <a:ext cx="8804160" cy="34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EFQ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BC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Stała oferta szkolenio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Oprogramowanie (EFQM, B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ozycjonowanie usług DGA dla największych </a:t>
            </a:r>
            <a:r>
              <a:rPr b="0" lang="pl-PL" sz="1200" spc="-1" strike="noStrike">
                <a:solidFill>
                  <a:srgbClr val="000066"/>
                </a:solidFill>
                <a:latin typeface="Arial"/>
              </a:rPr>
              <a:t>(ORLEN, ALLIANZ, AGORA, KRUS, KGHM, Thoms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Arial"/>
              </a:rPr>
              <a:t>Tożsama oferta usług dla małych i średnich przedsiębiorstw poprzez spółkę córk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3. 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arszaw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Katowic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Mosk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31800" y="1447920"/>
            <a:ext cx="90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– Marcin Zasta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2E61-8520-41AA-A43E-D1FD967357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04520" y="2460240"/>
            <a:ext cx="87058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30 (2004), 50 (2005)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Puls Biznesu, prasa specjalistyczna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Tematyczne portale internetowe, publikacje wydawnicze (2)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Własna publlikacja w zakresie bezpieczeństwa informacji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2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66"/>
                </a:solidFill>
                <a:latin typeface="Tahoma"/>
              </a:rPr>
              <a:t>Biuletyn informacyjny na www.dga.pl</a:t>
            </a:r>
            <a:endParaRPr b="0" lang="en-US" sz="10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30 (2004), 20 (2005)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2 „duże” konferencje: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3" marL="17146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Bezpieczeństwo Informacji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3" marL="1714680" indent="-3430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EFQM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1" lang="pl-PL" sz="1200" spc="-1" strike="noStrike">
                <a:solidFill>
                  <a:srgbClr val="000066"/>
                </a:solidFill>
                <a:latin typeface="Tahoma"/>
              </a:rPr>
              <a:t>- brak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631800" y="1917720"/>
            <a:ext cx="920124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Zarządzania  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31800" y="1447920"/>
            <a:ext cx="907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– Marcin Zastaw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FC89-0C0E-4F97-825D-9AF88F2AE14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31440" y="1773000"/>
            <a:ext cx="920124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Szef Pionu (Paweł Radziłowski) 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31800" y="2133720"/>
            <a:ext cx="427680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ion DZPiZ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232160" y="620640"/>
            <a:ext cx="4681800" cy="280836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684360" y="2492280"/>
            <a:ext cx="9021600" cy="451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odsumowanie wystąpień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rodu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Zatrudnienie obecnie 66 osób, docelowo w 2005 – max. 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Rynki zbytu są wynikową koncentracji na wysoko-budżetowych projekt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Formuła pozyskania zleceń /funkcjonowanie działów sprzedaży /charakterystyka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Wyodrębniony dział sprzedaż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Sprzedawcy sprzedają wszystkie produkty p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Sprzedawcy przypisani do branż lub regionó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lany działu sprzedaży pokrywają się z planem departamentów merytorycz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szty sprzedaży rozliczane na departamenty merytoryczne wg klucza pla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6234120" y="1844640"/>
            <a:ext cx="3672000" cy="1584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F64CD-8541-4F19-ABB3-869FD5329D7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04880" y="1911240"/>
            <a:ext cx="87120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ion DZiPI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39360" y="2460240"/>
            <a:ext cx="87058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e jakości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- 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maksymalne wykorzystanie technik informatycznych w zakresie obsługi klientów (np. DGA Support, sprzedaż przez internet, workflow)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       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uaktywnienie oddziału w Moskwie w zakresie usług i produktów pionu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umocnienie na rynku usług BS7799, workflow, wprowadzenie na rynek: hurtowni danych i biznes portal oraz rozwinięcie nowych produktów: korporacyjnej analizy ryzyka, planów ciągłości, ITIL, EFQM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utworzenie zagranicznej sieci partnerskiej w zakresie oprogramowania i usług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- akwizycja podmiotów z zakresu działania pionu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4. Szanse i zagrożenia dla Pionu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Szanse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prowadzenie w DGA modelu „tanich linii lotniczych”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ypromowanie DGA jako firmy realizującej duże projekty konsultingowo-informatyczne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Wypełnienie luki kompetencyjnej pomiędzy tradycyjnymi firmami doradczymi i informatycznymi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Zagrożenia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Brak jasno sprecyzowanych i zatwierdzonych kierunków rozwoju poszczególnych pionów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Zatrzymanie inwestycji w rozwój produktów pionu oraz akwizycję 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-339480">
              <a:spcBef>
                <a:spcPts val="3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resja na konkurencję cenową za wszelką cenę (brak segmentacji konkurentów)</a:t>
            </a: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lvl="1" marL="7920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  <a:p>
            <a:pPr marL="3394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2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Szef Pionu (Paweł Radziłows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C710-4A53-4E2E-8A64-989C2736B69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303840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partament Doradztwa Biznesowe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344B-A4B1-4B20-B7DF-A0405ED30FA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704880" y="1486080"/>
            <a:ext cx="8712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-360" y="1915920"/>
            <a:ext cx="99061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Zespół ds. Fuzji i Przejęć oraz Zespół ds. Wycen i Przekształceń Przedsiębiorstw-Maciej Anteck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2800" y="2363760"/>
            <a:ext cx="303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9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208160" y="3141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0816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649040" y="2363760"/>
            <a:ext cx="480888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wyceny i biznes plany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obsługa fuzji i przejęć oraz dezinwestycji kapitałow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doradztwo w zakresie pozyskania kapitału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analizy opłacalności przedsięwzięć inwestycyjn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analizy funkcjonowania przedsiębiorstw </a:t>
            </a:r>
            <a:br>
              <a:rPr sz="1300"/>
            </a:b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oraz ich obszarów biznesowych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300" spc="-1" strike="noStrike">
                <a:solidFill>
                  <a:srgbClr val="000066"/>
                </a:solidFill>
                <a:latin typeface="Tahoma"/>
              </a:rPr>
              <a:t>budowa strategii restrukturyzacyjnych oraz obszarowych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61080" y="4092480"/>
            <a:ext cx="4413240" cy="23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przychód planowany – 2 mln zł.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nowe produkty i usług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Value Based Management (VBM)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Rating i zarządzanie ryzykiem przedsiębiorstw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Partnerstwo Publiczno-Prywatne (od strony </a:t>
            </a:r>
            <a:br>
              <a:rPr sz="1200"/>
            </a:b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inwestorów prywatnych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nowi Klienci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Przedsiębiorstwa komunaln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66"/>
                </a:solidFill>
                <a:latin typeface="Tahoma"/>
              </a:rPr>
              <a:t>in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25320" indent="-1681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wejście na rynek wschodnioeuropejski (Rosja) </a:t>
            </a:r>
            <a:br>
              <a:rPr sz="1200"/>
            </a:b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z produktami ogólnokonsultingowym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86000" y="4164120"/>
            <a:ext cx="3909600" cy="21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inisterstwo Skarbu Państwa,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jednoosobowe spółki Skarbu Państw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zagraniczne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ub o kapitale zagraniczny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sektora energetyczn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prywat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3F0-AA99-44E7-9C62-3CD2FE32948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31440" y="1483920"/>
            <a:ext cx="871236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3144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Zespół ds. Pozyskiwania Funduszy dla Przedsiębiorstw-Damian Bernaciak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2800" y="2363760"/>
            <a:ext cx="303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 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08160" y="314172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08160" y="3429000"/>
            <a:ext cx="143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79280" y="2363760"/>
            <a:ext cx="3706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ygotowanie wniosków aplikacyjn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ygotowanie biznes plan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rządzanie realizacją inwesty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ozliczenia z instytucją wdrażając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61080" y="4092480"/>
            <a:ext cx="504504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1 mln zł.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PO-ROL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PO-WKP Priorytet 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PO-WKP Działanie 2.4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92160" indent="-92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Przedsiębiorstwa Sektora Żywnościoweg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Duże przedsiębiorstwa przemysł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towarzyszeni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33520" indent="-7632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Przedsiębiorstwa komunal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00160" y="4164120"/>
            <a:ext cx="4465440" cy="15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prywatn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ektor MSP (Małe i Średnie Przedsiębiorstwa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Duże Przedsiębiorstwa prywat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F6C67-8401-4CD1-B3BC-362D1D2642B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yrektor (Marek Machnicki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 (1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6" name=""/>
          <p:cNvSpPr/>
          <p:nvPr/>
        </p:nvSpPr>
        <p:spPr>
          <a:xfrm>
            <a:off x="757080" y="2548080"/>
            <a:ext cx="880452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ozszerzenie oferty klasycznych produktów konsulting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Obsługa wszystkich działań wspierających przedsiębiorstwa w ramach programów pomocowych 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awiązanie bezpośredniej współpracy z podmiotami sektora finansow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ejście na rynek rosyjski z ofertą klasycznych produktów konsultingow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arszawa 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(?)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skwa (?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F433C-4EDE-47E3-8149-6BCCE849B1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3038400"/>
            <a:ext cx="990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Departament Doradztwa Zarządczego </a:t>
            </a:r>
            <a:br>
              <a:rPr sz="2400"/>
            </a:b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 Produktów Informatycznych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E81AD-D25B-469E-AA63-5DC8C57D91C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 (2)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GA – ekspertem w zakresie wycen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VBM, rating i PPP – okazjonalne artykuły w prasie specjalistycznej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tynuacja serii artykułów dotyczących możliwości pozyskania wsparcia finansowego dla przedsiębiorstw w ramach programów pomocowych U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artnerstwo Publiczno-Prywat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tynuacja współudziału w konferencjach energetycznych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tynuacja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udziału i współorganizacji konferencji związanych z programami pomocowymi U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dwyższanie kwalifikacji merytorycznych i menedżerskich konsultantów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69" name=""/>
          <p:cNvSpPr/>
          <p:nvPr/>
        </p:nvSpPr>
        <p:spPr>
          <a:xfrm>
            <a:off x="633240" y="155736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yrektor (Marek Machnic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96B-AC0C-4F02-8BC5-98555297C34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3144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603680" y="2363760"/>
            <a:ext cx="529956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Wdrożenia systemu DGA Controlling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zkolenia i warsztat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Audyty controllingow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Controllingowe koncepcje funkcjonowania przedsiębiorst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61080" y="4092480"/>
            <a:ext cx="504504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1 ml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alszy rozwój narzędzia informatycznego DGA Controlling – integracja programów informatycznych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ostępujące rozszerzanie rynku i aktywne kształtowanie popytu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Nawiązywanie współpracy z firmami informatycznymi dostarczającymi programy finansowo-księgowe. (Emax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360" y="4221000"/>
            <a:ext cx="49291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reprezentujące pełen przekrój bran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1800" y="141300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Katarzyna Bojke)</a:t>
            </a: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9DCD-5B59-4FBF-B8C2-799A3A8134F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31440" y="155700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Katarzyna Bojke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757080" y="2548080"/>
            <a:ext cx="8804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tynuacja prac rozwojowych związanych z narzędziem DGA Controlling – modyfikacje i usprawnienia system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odjęcie prac integracyjnych w ramach programów informatycznych DG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Rozszerzanie obecnego portfela klientów o nowe przedsiębiorstw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Gdańs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734-10F3-4D42-AB2C-1F7A948CDF0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Doradztwa Finansowego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tynuacja współpracy z wydawnictwem Infor – „Controlling i rachunkowość zarządcza”, „Rachunkowość finansowa i zarządcza” w obszarze publikacji, organizacji warsztatów i szkoleń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Wydawanie kwartalnika „Biuletyn Informacyjny DF” (druk, internet)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tynuacja współpracy z IIR z siedzibą w Warszawie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Rozpoczęcie działań w ramach „Forum Wymiany Wiedzy”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Organizacja ogólnopolskiej konferencji „Forum Controllingowe”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5" name=""/>
          <p:cNvSpPr/>
          <p:nvPr/>
        </p:nvSpPr>
        <p:spPr>
          <a:xfrm>
            <a:off x="631800" y="155736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Katarzyna Bojk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6037-0948-4DAB-9D49-754CF735FA1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/>
          </p:nvPr>
        </p:nvSpPr>
        <p:spPr>
          <a:xfrm>
            <a:off x="704880" y="1628640"/>
            <a:ext cx="89280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Doradztwa Marketingowego - Rafał Wrzeszcz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36600" y="2363760"/>
            <a:ext cx="44262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900" spc="-1" strike="noStrike">
                <a:solidFill>
                  <a:srgbClr val="000066"/>
                </a:solidFill>
                <a:latin typeface="Tahoma"/>
              </a:rPr>
              <a:t>(w zależności od liczby wdrożeń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696200" y="2363760"/>
            <a:ext cx="372996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CRM – SalesManag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e w zakresie obsługi i sprzedaż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plikacje dedykow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61080" y="4113360"/>
            <a:ext cx="504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1 ml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CRM – Microsoft CR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Dedykowane rozwiązania informatyczn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Bankowość, Serwis, Przemysł, </a:t>
            </a:r>
            <a:r>
              <a:rPr b="0" i="1" lang="en-GB" sz="1400" spc="-1" strike="noStrike">
                <a:solidFill>
                  <a:srgbClr val="000066"/>
                </a:solidFill>
                <a:latin typeface="Tahoma"/>
              </a:rPr>
              <a:t>Utilities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wdrożenia pilotażowe (ENEA, ZEW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in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- Partnerstwo z Microso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12720" y="4164120"/>
            <a:ext cx="376416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kłady Energetycz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dsiębiorstwa produk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C0F2-B821-448F-B58B-5220B820D54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/>
          </p:nvPr>
        </p:nvSpPr>
        <p:spPr>
          <a:xfrm>
            <a:off x="631440" y="1915920"/>
            <a:ext cx="820908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Doradztwa Strategicznego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96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pl-PL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pl-PL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8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648680" y="2363760"/>
            <a:ext cx="494280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nalizy strategiczne (analizy otoczenia rynkowego oraz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diagnozy sytuacji wewnętrznej podmiotów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lany restrukturyzacji i reorgani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koncepcje funkcjonowania podmio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e rozwoju, strategie prywatyzacj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wdrażanie strategii zgodnie z metodologią ZKW (BS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5800" y="4164120"/>
            <a:ext cx="4321440" cy="26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inisterstwo Skarbu Państwa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JSSP (głównie Zakłady Energetyczne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uże i średnie podmioty z innych branż –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o różnym statusie własnościowym (gazownictwo,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transport i logistyka, zbrojeniówka, firmy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wodociągowe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861080" y="4092480"/>
            <a:ext cx="5045040" cy="228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ok.2,5 mln PL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kompleksowe doradztwo zarządcze (projekty pod klucz w ramach długofalowego doradztw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firmy na rynku rosyjskim (głównie z branży</a:t>
            </a:r>
            <a:br>
              <a:rPr sz="1400"/>
            </a:b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 energetycznej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Inne -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Partnerstwo z doświadczonymi, zagranicznymi firmami doradztwa strategicznego – np.. DROEGE&amp;Comp.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title"/>
          </p:nvPr>
        </p:nvSpPr>
        <p:spPr>
          <a:xfrm>
            <a:off x="631440" y="155700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Rafał Oleszkiewicz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69AE-F493-4389-9275-EFC6FBE3E95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576360" y="1125360"/>
            <a:ext cx="920088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oradztwo Strategiczne  - Jacek Musiał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6" name=""/>
          <p:cNvSpPr/>
          <p:nvPr/>
        </p:nvSpPr>
        <p:spPr>
          <a:xfrm>
            <a:off x="541440" y="1644480"/>
            <a:ext cx="95248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mercjalizacja” inwestycji z ubiegłego roku i nowe modele działania w poszczególnych obszarach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spółpraca z dostawcami narzędzi klasy ERP – narzędzia DGA BSC, DGA Controlling, DGA CRM – jako narzędzia usprawniające procesy zarządcz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Rozwój usług konsultingowych w kierunku rozwiązań aplikacyjnych (niekoniecznie informatycznych) – łączenie koncepcji z wdrożeniem. Zmiana modelu biznesowego ze </a:t>
            </a: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sprzedaży koncepcji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na </a:t>
            </a: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sprzedaż rozwiązania z wdrożeniem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(success fee). Współpraca strategiczna np. z DROEGE (Niemcy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Umocnienie pozycji w energetyce – restrukturyzacja po konsolidacji – szans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ejście w segment klientów prywatnych – krajowe firmy o dużej dynamice wzrost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ocne wejście na rynek rosyjski, zwłaszcza w branżę energetyczną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Lokalizacja Konsultan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znań, Moskwa (II/III kwartał 2005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In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yraźne oddzielenie funkcji rozwojowych od produkcji (zwiększenie odpowiedzialności Szefów Zespołów i konsultantów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przedaż zorientowana produktow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01A7-9D39-4A64-84FF-6E140B4A3172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31440" y="2389320"/>
            <a:ext cx="970596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Artykuły w prasie specjalistycznej dla określonych produk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ypowiedzi eksperckie w prasie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romocja (zwłaszcza produktów informatycznych) przez </a:t>
            </a:r>
            <a:r>
              <a:rPr b="0" lang="pl-PL" sz="16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dga.pl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oraz Internet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Organizacja konferencji własnych promujących kilka produktów, wraz z wystąpieniami klien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spółorganizowanie konferencji ze znaczącymi partnerami (np. MICROSOFT, EMAX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większenie skuteczności sprzedaży,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intensyfikowanie współpracy z partnerami strategicznymi – uzyskanie wymiernych efek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inimalizacja ryzyka związanego z rozwojem produktów informatycznych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08" name=""/>
          <p:cNvSpPr/>
          <p:nvPr/>
        </p:nvSpPr>
        <p:spPr>
          <a:xfrm>
            <a:off x="720720" y="1701720"/>
            <a:ext cx="920124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oradztwo Strategiczne  - Jacek Musia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8401-A545-4D28-B1E2-2FB167E85378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560520" y="1628280"/>
            <a:ext cx="9345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epartament Projektów Zagranicznych – Zbyszek Dutkiewicz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1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52800" y="2363760"/>
            <a:ext cx="303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90160" y="2363760"/>
            <a:ext cx="4662720" cy="231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Arial"/>
              </a:rPr>
              <a:t>Aranżacja finansowania dla zawartych kontraktó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OCENA RYZYKA TRANSAK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STRUKTURYZACJA PROJE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DOBÓR INSTYTUCJI FINANS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WYBÓR OFE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NADZÓR PRZEBIEGU TRANSAK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861080" y="4092480"/>
            <a:ext cx="5045040" cy="11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ychód planowany –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2,6 MLN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09760" y="4164120"/>
            <a:ext cx="411264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irmy prowadzące (rozpoczynające) działalnoś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graniczną w zakresi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)  inwestycji bezpośredni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)  kupna / sprzedaży dóbr inwestycyj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6BD77-CD3E-477D-A252-AD00C3DEC88A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631800" y="1628640"/>
            <a:ext cx="880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999360" y="2205000"/>
            <a:ext cx="7830360" cy="3841560"/>
            <a:chOff x="999360" y="2205000"/>
            <a:chExt cx="7830360" cy="3841560"/>
          </a:xfrm>
        </p:grpSpPr>
        <p:sp>
          <p:nvSpPr>
            <p:cNvPr id="219" name="_s101381"/>
            <p:cNvSpPr/>
            <p:nvPr/>
          </p:nvSpPr>
          <p:spPr>
            <a:xfrm flipH="1" flipV="1">
              <a:off x="3350520" y="3576960"/>
              <a:ext cx="784800" cy="3121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1382"/>
            <p:cNvSpPr/>
            <p:nvPr/>
          </p:nvSpPr>
          <p:spPr>
            <a:xfrm>
              <a:off x="1574640" y="2769840"/>
              <a:ext cx="1995120" cy="997200"/>
            </a:xfrm>
            <a:prstGeom prst="ellipse">
              <a:avLst/>
            </a:prstGeom>
            <a:solidFill>
              <a:srgbClr val="a8c9c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prowadzanie polskich firm na nowe rynki zbytu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101383"/>
            <p:cNvSpPr/>
            <p:nvPr/>
          </p:nvSpPr>
          <p:spPr>
            <a:xfrm flipH="1">
              <a:off x="2966040" y="4310280"/>
              <a:ext cx="978480" cy="1123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101384"/>
            <p:cNvSpPr/>
            <p:nvPr/>
          </p:nvSpPr>
          <p:spPr>
            <a:xfrm>
              <a:off x="999360" y="4035600"/>
              <a:ext cx="1995120" cy="997200"/>
            </a:xfrm>
            <a:prstGeom prst="ellipse">
              <a:avLst/>
            </a:prstGeom>
            <a:solidFill>
              <a:srgbClr val="96b3b6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100" spc="-1" strike="noStrike">
                  <a:solidFill>
                    <a:srgbClr val="000000"/>
                  </a:solidFill>
                  <a:latin typeface="Arial"/>
                </a:rPr>
                <a:t>Łącznie partnerów zagranicznych „business matching”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101385"/>
            <p:cNvSpPr/>
            <p:nvPr/>
          </p:nvSpPr>
          <p:spPr>
            <a:xfrm flipH="1">
              <a:off x="4047480" y="4646880"/>
              <a:ext cx="433440" cy="4525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101386"/>
            <p:cNvSpPr/>
            <p:nvPr/>
          </p:nvSpPr>
          <p:spPr>
            <a:xfrm>
              <a:off x="2620080" y="5049360"/>
              <a:ext cx="1995120" cy="997200"/>
            </a:xfrm>
            <a:prstGeom prst="ellipse">
              <a:avLst/>
            </a:prstGeom>
            <a:solidFill>
              <a:srgbClr val="9fbfc1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Organizacja inwestycyjnym na rynkach wschodn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101387"/>
            <p:cNvSpPr/>
            <p:nvPr/>
          </p:nvSpPr>
          <p:spPr>
            <a:xfrm>
              <a:off x="5343480" y="4646880"/>
              <a:ext cx="438120" cy="45108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101388"/>
            <p:cNvSpPr/>
            <p:nvPr/>
          </p:nvSpPr>
          <p:spPr>
            <a:xfrm>
              <a:off x="5216760" y="5049360"/>
              <a:ext cx="1994400" cy="997200"/>
            </a:xfrm>
            <a:prstGeom prst="ellipse">
              <a:avLst/>
            </a:prstGeom>
            <a:solidFill>
              <a:srgbClr val="adcfd2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Pomoc w wykorzystaniu programów oraz środków UE przez firmy z obszaru FR i S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101389"/>
            <p:cNvSpPr/>
            <p:nvPr/>
          </p:nvSpPr>
          <p:spPr>
            <a:xfrm>
              <a:off x="5882400" y="4310280"/>
              <a:ext cx="978480" cy="11052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1390"/>
            <p:cNvSpPr/>
            <p:nvPr/>
          </p:nvSpPr>
          <p:spPr>
            <a:xfrm>
              <a:off x="6834600" y="4034160"/>
              <a:ext cx="1995120" cy="9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Sprzedaż produktów DGA SA na rynkach wschodni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1391"/>
            <p:cNvSpPr/>
            <p:nvPr/>
          </p:nvSpPr>
          <p:spPr>
            <a:xfrm flipV="1">
              <a:off x="5689440" y="3575880"/>
              <a:ext cx="784080" cy="31356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1392"/>
            <p:cNvSpPr/>
            <p:nvPr/>
          </p:nvSpPr>
          <p:spPr>
            <a:xfrm>
              <a:off x="6257160" y="2768400"/>
              <a:ext cx="1994400" cy="997200"/>
            </a:xfrm>
            <a:prstGeom prst="ellipse">
              <a:avLst/>
            </a:prstGeom>
            <a:solidFill>
              <a:srgbClr val="d0eaec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Świadczenie usług dla firm z obszaru UE oraz FR i SNG z zakresu prawno-księgowego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1393"/>
            <p:cNvSpPr/>
            <p:nvPr/>
          </p:nvSpPr>
          <p:spPr>
            <a:xfrm flipV="1">
              <a:off x="4911840" y="3200400"/>
              <a:ext cx="0" cy="501480"/>
            </a:xfrm>
            <a:prstGeom prst="line">
              <a:avLst/>
            </a:prstGeom>
            <a:ln w="28440">
              <a:solidFill>
                <a:srgbClr val="4b595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1394"/>
            <p:cNvSpPr/>
            <p:nvPr/>
          </p:nvSpPr>
          <p:spPr>
            <a:xfrm>
              <a:off x="3915720" y="2205000"/>
              <a:ext cx="1995120" cy="997200"/>
            </a:xfrm>
            <a:prstGeom prst="ellipse">
              <a:avLst/>
            </a:prstGeom>
            <a:solidFill>
              <a:srgbClr val="e4f3f4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Arial"/>
                </a:rPr>
                <a:t>Wprowadzanie firm z obszaru FR i SNG na rynek U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1395"/>
            <p:cNvSpPr/>
            <p:nvPr/>
          </p:nvSpPr>
          <p:spPr>
            <a:xfrm>
              <a:off x="3915720" y="3702600"/>
              <a:ext cx="1995120" cy="9972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4b595b"/>
              </a:solidFill>
              <a:miter/>
            </a:ln>
            <a:effectLst>
              <a:outerShdw dist="53966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333399"/>
                  </a:solidFill>
                  <a:latin typeface="Arial"/>
                </a:rPr>
                <a:t>Departament Projektów Zagranicznych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363E-57ED-47F1-B373-CFFF2B9D108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epartament Business Intelligence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3144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99cc00"/>
                </a:solidFill>
                <a:latin typeface="Tahoma"/>
              </a:rPr>
              <a:t>Zespół Konsultingu Informatycznego</a:t>
            </a: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/Zespół Business Intelligence  (Wojtek Pozarzycki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51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72880" y="371628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52800" y="2363760"/>
            <a:ext cx="3034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65240" y="306864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6524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624560" y="2363760"/>
            <a:ext cx="516384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Przygotowanie do wdrożenia systemów informatycz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99cc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99cc00"/>
                </a:solidFill>
                <a:latin typeface="Tahoma"/>
              </a:rPr>
              <a:t>Audyt Informatyczn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333399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Hurtownia Danych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Umowy partnerskie: Business Objects, Oracle, IB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861080" y="3716280"/>
            <a:ext cx="504504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rzychód planowany – 1,2 mln P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ystemy Business Intelligenc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Business Portal (portal korporacyjny na WebSphere IBM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99cc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99cc00"/>
                </a:solidFill>
                <a:latin typeface="Tahoma"/>
              </a:rPr>
              <a:t>Zarządzanie Kosztami i Organizacją I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telekom, energetyka, ubezpieczenia, finans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inne: rozwój kompetencji w zakresie systemów: ORACLE, BUSINESS OBJECTS, IBM WEBSP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88880" y="3860640"/>
            <a:ext cx="397980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średnie i duże przedsiębiorstw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(ZEC Łódź, Rolimpex, Cenos, Pomorska Spółka Gazownictwa Sp. z o.o.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administracja publicz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(PARP, ZUS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15D60-130F-4A12-88A7-EE71DD40C7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/>
          </p:nvPr>
        </p:nvSpPr>
        <p:spPr>
          <a:xfrm>
            <a:off x="631440" y="1628640"/>
            <a:ext cx="8705880" cy="4608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2. Działania marketingowe: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dział w imprezach wystawienniczych i konferencjach branżowych w FR i SNG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tworzenie strony internetowej </a:t>
            </a:r>
            <a:r>
              <a:rPr b="0" lang="pl-PL" sz="14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www.dga.ru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z uwzględnieniem specyfiki rynków wschodnich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tworzenie internetowej platformy informacyjnej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dział w misjach gospodarczych organizowanych przez WEH do regionów FR i SNG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ropagowanie marki DGA SA w Izbach Gospodarczych z krajów wschodnich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-281160">
              <a:spcBef>
                <a:spcPts val="349"/>
              </a:spcBef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Zgłoszenie DGA do rankingów firm konsultingowych w FR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3. Lokalizacja: </a:t>
            </a: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Warszawa i Moskwa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4. Nowi Klienci: </a:t>
            </a: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Przedsiębiorstwa i instytucje z terytorium FR i SNG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5. Nowe firmy współpracujące: </a:t>
            </a: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Instytucje finansowe z Niemiec </a:t>
            </a:r>
            <a:br>
              <a:rPr sz="2000"/>
            </a:b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(np. Bankgesellschaft Berlin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  <a:p>
            <a:pPr marL="2811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04CBB-B7B9-4685-B661-DCE3FACF6B4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32880" y="1550880"/>
            <a:ext cx="871236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Szef Pionu (Waldemar Przybył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47280" y="1916280"/>
            <a:ext cx="9201240" cy="53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oradztwo Biznesow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7" name=""/>
          <p:cNvSpPr/>
          <p:nvPr/>
        </p:nvSpPr>
        <p:spPr>
          <a:xfrm>
            <a:off x="704880" y="2421000"/>
            <a:ext cx="9021600" cy="41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Podsumowanie wystąpień Szefów Departamentu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rodukty- Corporate Finance, Doradztwo Strategiczne i wdrażanie rozwiązań informatycznych (DGA BSC, DGA - Controling, DGA - CRM), UE dla firm, Produkty związane z finansowaniem działalności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atrudnienie – 50 osób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Rynki zbytu – średnie i duże przedsiębiorstwa krajowe, przedsiębiorstwa zagraniczne działające w Polsce, Ros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Formuła pozyskania zleceń /funkcjonowanie działów sprzedaży /charakterystyka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ziały sprzedaży przypisane dyrektorom departamentów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atrudnienie: 7 osób (1 osoba-Moskwa)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przedaż produktowa z silnym naciskiem na markę DGA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Znaczący udział konsultantów merytorycznych w pozyskiwaniu zlece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E0C5-4F87-4BB5-B18F-1F3130783D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649080" y="2460240"/>
            <a:ext cx="905652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Nowe jakości w 2005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Aktywizacja Moskwy w zakresie realizacji produktów DGA na rynku WNP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onsolidacja wewnątrz Pionu produktów informatycznych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odel świadczenia usług w oparciu o success fee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Współpraca ze spółkami grupy DGA oraz partnerami strategicznymi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Szanse i zagrożenia dla Pionu w 2005r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66"/>
                </a:solidFill>
                <a:uFillTx/>
                <a:latin typeface="Tahoma"/>
              </a:rPr>
              <a:t>Szanse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ilny zespół konsultantów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Kreujące się nowe rynki zbytu w Rosji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rzygotowane do sprzedaży nowe produkty informatyczne wspierające rozwiązania</a:t>
            </a:r>
            <a:br>
              <a:rPr sz="1600"/>
            </a:b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 biznesow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 u="sng">
                <a:solidFill>
                  <a:srgbClr val="000066"/>
                </a:solidFill>
                <a:uFillTx/>
                <a:latin typeface="Tahoma"/>
              </a:rPr>
              <a:t>Zagrożenia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Czynnik polityczny (wybory w Polsce, relacje polityczne Polska-Rosja)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Słaba współpraca pomiędzy pionami,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Ryzyko związane z budową aplikacji własnych DGA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04880" y="1484280"/>
            <a:ext cx="871200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Waldemar Przybyła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04880" y="1955880"/>
            <a:ext cx="9201240" cy="53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oradztwo Bizneso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B3C2E-93B7-4797-8DA4-184B594685B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3038400"/>
            <a:ext cx="990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Unia Europejsk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A2FB-AC4E-40F8-BCFD-8FEF65316C93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Marcin Ługawiak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943272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ds. Analiz i Strategii Lokalnych i Regionalny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4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789440" y="2363760"/>
            <a:ext cx="4579920" cy="22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rategie rozwoju lokalnego/gospodarczeg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lany Rozwoju Lok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Lokalne Programy Rewitalizac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nalizy rynku pracy, sytuacji społeczno-gospodarcz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wiatów i 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861080" y="4092480"/>
            <a:ext cx="5045040" cy="24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przychód planowany brutto: 1.200.000 P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trategie rozwoju regionalne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Strategie rozwoju turystyki, plany promocji miast i 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Arial"/>
              </a:rPr>
              <a:t>Partnerstwa Publiczno-Prywat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oszerzenie rynku obecnych klientów o nowe województw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12720" y="4164120"/>
            <a:ext cx="3692520" cy="17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arszałkowsk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aros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iast i Gm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Bank Świat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63CCC-1AD2-4E95-A2FD-BF0C2AD6FBC1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Maja Pasie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Projektów Infrastrukturalnych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5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0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617720" y="2363760"/>
            <a:ext cx="53208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Wnioski oraz studia wykonalności projektów finansowa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  EFRR (ZPORR, SPO-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861080" y="4092480"/>
            <a:ext cx="50450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przychód planowany brutto: 1.800.000 P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Studia wykonalności dla projektów finansowanych z Funduszu Spójności  i z Inicjatywy Wspólnotowej INTERRE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- Związki i Stowarzyszenia Gmin i Powia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65200" y="4164120"/>
            <a:ext cx="36036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 Urzędy  Miast, Gmin oraz ich jednostk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 Starostwa Powiatowe </a:t>
            </a: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raz ich jednostk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organiza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arszałkowskie, Wojewódzki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arafi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nstytucje kultury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czelnie wyższ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7DCA-D55B-4947-AF21-3C1A0A1D3D6C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Adrianna Siemionek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69120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entrum Przygotowania i Nadzorowania Inwestycji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6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3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32840" y="2363760"/>
            <a:ext cx="4991760" cy="156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ełnienie funkcji Inżyniera Kontrakt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pracowania analityczne z zakresu ochrony środowi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nalizy Techniczne i Technologic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861080" y="4092480"/>
            <a:ext cx="5045040" cy="18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przychód planowany brutto: 2.000.000 P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ozwolenia Zintegrow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ozwolenia wodno-praw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rogramy Ochrony Środowi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Firmy, Województw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6120" y="4164120"/>
            <a:ext cx="179172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Mias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Gmin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wia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2610-0785-4B47-9526-9B4C7F5EE94E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Menadżer Zespołu (Anna Kosmała-Zarzyc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427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Projektów Społeczny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7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4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789440" y="2363760"/>
            <a:ext cx="511668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pracowywanie projektów finansowanych ze środków EFS (SPO RZL, EQUAL) w zakresie integracji społecznej i rynku pracy, zjawisk marginalizacji i wyrównywania sza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rządzanie projektami o tematyce społecznej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861080" y="4005360"/>
            <a:ext cx="504504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przychód planowany brutto: 5.000.000 PL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rzygotowanie projektów społecznych na Ukrainie i w Rosj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przygotowywanie wniosków na zlecenia zewnętrz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400" spc="-1" strike="noStrike">
                <a:solidFill>
                  <a:srgbClr val="000066"/>
                </a:solidFill>
                <a:latin typeface="Tahoma"/>
              </a:rPr>
              <a:t>doradztwo dla powstających podmiotów socjaln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szerzenie rynku obecnych klien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12720" y="4164120"/>
            <a:ext cx="3835440" cy="295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 Urzędy Miast, Gmin oraz ich jednostki organizacyjne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arostwa Powiatowe oraz ich jednostki organizacyj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rzędy Marszałkowskie, Wojewódzki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czelnie wyżs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je pozarzą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ubliczne Instytucje Rynku 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ubliczne Instytucje Pomocy Społecznej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44457-CE17-4B26-99A0-F36877D0AABB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Żub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jektów Europejski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4" name=""/>
          <p:cNvSpPr/>
          <p:nvPr/>
        </p:nvSpPr>
        <p:spPr>
          <a:xfrm>
            <a:off x="757080" y="2548080"/>
            <a:ext cx="8804520" cy="34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nastawienie na duże projekty w każdym z zespołów m.in. Inicjatywa Wspólnotowa INTERREG, Europejski Fundusz Społeczny, Inżynier Kontraktu, EQUAL, PPP, projekty zagranicz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firm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ładze regionalne w Europie Zachodniej (Hiszpania, Francja, Wielka Brytani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Ministerstwa i Instytucje wdrażające projekty finansowane ze środków Unii Europejskiej na Ukrainie i w Rosj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zna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Warsza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zczec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B930-6BAA-4986-B05E-5FEB3C182AF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jektów Europejskich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Artykuły prasowe, publikacje książkowe, audycje radiowe i telewizyjn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zekazywanie informacji o wygranych projektach oraz o sukcesach związanych z ich realizacją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rtykuły tematyczne z zakresu polityki regionalnej UE i polityki społecznej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77616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ja cyklu konferencji i warsztatów we współpracy z SGiP Wielkopolski, w tym promocja PPP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rganizacja spotkań z przedstawicielami samorządów „śniadania samorządowe”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dział we wszystkich znaczących wydarzeniach samorządowych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ezentacja projektów na konferencjach z zakresu Europejskiego Funduszu Społecznego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-332640">
              <a:lnSpc>
                <a:spcPct val="80000"/>
              </a:lnSpc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ezentacje na temat realizowanych projektów na konferencjach krajowych i międzynarodowych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2" marL="12196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00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  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Wsparcie realizowanych projektów w zakresie obsługi prawno-rozliczeniowej.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7" name=""/>
          <p:cNvSpPr/>
          <p:nvPr/>
        </p:nvSpPr>
        <p:spPr>
          <a:xfrm>
            <a:off x="631800" y="1557360"/>
            <a:ext cx="871236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Żub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024F-965B-41F9-B6BC-DD3DE78F9066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Business Intelligenc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 po jednym artykule na kwartał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II Kongres Business Intelligence 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VI Konferencja Użytkowników Business Objects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„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Nowoczesna Elektrociepłownia” (Business Objects w ZEC –Ł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dbudowa potencjału zespołu pozwalająca zrealizować zakładaną sprzedaż.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1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Dyrektor (Wojtek Pozarzyc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17B1-2390-4F23-A315-5371BF08E20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Joanna Hejft – Wolska i Olga Hołoga 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42768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Centrum Rozwoju Kadr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7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612680" y="2363760"/>
            <a:ext cx="527364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budowanie programów szkoleniowych dofinansowanych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z EFS (diagnozowanie potrzeb szkoleniowych, projektowanie,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zarządzani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komercyjne pisanie wniosków o dofinansowanie szkoleń </a:t>
            </a:r>
            <a:br>
              <a:rPr sz="1200"/>
            </a:b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z EFS dla innych firm szkoleniow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organizacja szkoleń komercyjnych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Kompleksowe programy outplamentu dla firm restrukturyzowanych.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861080" y="4005360"/>
            <a:ext cx="5045040" cy="25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 przychód planowany (łącznie z zespołem dużych projektów) – </a:t>
            </a:r>
            <a:r>
              <a:rPr b="1" lang="en-US" sz="1200" spc="-1" strike="noStrike">
                <a:solidFill>
                  <a:srgbClr val="000066"/>
                </a:solidFill>
                <a:latin typeface="Tahoma"/>
              </a:rPr>
              <a:t>10 mln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pozyskiwanie projektów finansowanych z innych źródeł niż fundusze strukturaln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stworzenie portalu do badania potrzeb szkoleniowych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wdrożenie systemu oceny efektywności  szkoleń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stworzenie strategii specjalizacji w obszarze szkoleń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infrastruktura szkoleniow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nowi Klienc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wykorzystanie MS Project i metodyk zarządzania projektami stosowanych w U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77000" y="4076640"/>
            <a:ext cx="44643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uże firmy planujące wdrożenie kompleksowych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ogramów szkoleniowych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EnergiaPro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mica Wronki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hilip Morris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Icopal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firmy szkoleniowe aplikujące o dofinansowanie </a:t>
            </a:r>
            <a:br>
              <a:rPr sz="1400"/>
            </a:b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rojektów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administracja samorządowa (WUP-y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FFDA-CE71-435A-9C1A-CBA64785EC65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Łuś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04520" y="1915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Rozwoju Zasobów Ludzkich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757080" y="2548080"/>
            <a:ext cx="8804520" cy="38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rodukty spółek córek uzupełnieniem katalogu produktów CRK : Meurs - testy kompetencyjne; PIKW - szkolenia audytorów (nowe zupełnie szkolenia na Kierownika projektu finansowanego z UE – kreujemy nowy zawó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Oparte o narzędzia informatyczne produkty do badania potrzeb szkoleniowych i monitorujące efekty szkole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drażanie projektów Phare w krajach kandydujących do 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i Klienci – Podsumowani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uże firmy wdrażające kompleksowe projekty szkoleniowe i doradcze w zakresie 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Instytucje samorządowe – szkolenia z zarządzania projektami europejski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znań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Warszaw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67A37-F893-4109-8A5A-46BCEB94DA69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31440" y="191592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Rozwoju Zasobów Ludzkich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704520" y="2389320"/>
            <a:ext cx="8705880" cy="39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Akcje promocyjn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Artykuły prasow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-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ersonel i Zarządzani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uls Biznesu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Gazeta Samorządow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onferencje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Aktywny udział w sieciach międzynarodowych (MACONET, EURONET)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Kongres HR - Warszaw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Spotkanie członków Polskiego Stowarzyszenia Zarządzania Kadram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2" marL="12574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Targi firm szkoleniowych - Warszawa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Tematy wymagające sanacji: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Uznanie CRK jako szansy na wejście w nowe obszary w firmach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(szkolenia, doradztwo personalne) dla wszystkich Pionów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3" name=""/>
          <p:cNvSpPr/>
          <p:nvPr/>
        </p:nvSpPr>
        <p:spPr>
          <a:xfrm>
            <a:off x="631800" y="1484280"/>
            <a:ext cx="8712360" cy="50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Anna Łu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AED15-3E51-4AED-8ABA-C905DAC9858A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Anna Szymańska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704880" y="1988640"/>
            <a:ext cx="4276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ion Integracji Europejskiej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06" name=""/>
          <p:cNvSpPr/>
          <p:nvPr/>
        </p:nvSpPr>
        <p:spPr>
          <a:xfrm>
            <a:off x="684360" y="2276640"/>
            <a:ext cx="9021600" cy="44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Podsumowanie wystąpień Szefów Departamentu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Produkty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Zatrudnienie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stan na dzień 13/01/05 -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37 osób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   stan na dzień 31/12/05 - 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51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osó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Tahoma"/>
              </a:rPr>
              <a:t>Rynki zbytu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Polska, projekty międzynarod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Tahoma"/>
              </a:rPr>
              <a:t>Formuła pozyskania zleceń /funkcjonowanie działów sprzedaży /charakterystyka/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ahoma"/>
              </a:rPr>
              <a:t>FORMUŁA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      </a:t>
            </a: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rzetargi                /    konkursy                      / zlecenia komer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66"/>
                </a:solidFill>
                <a:latin typeface="Tahoma"/>
              </a:rPr>
              <a:t>ORGANIZACJA: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odpowiedź na ogłoszenie   /   budowanie projektów w oparciu  / aktywizacja indywidual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                                          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aktywizacja indywidualna                   o konsorcj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66"/>
                </a:solidFill>
                <a:latin typeface="Arial"/>
              </a:rPr>
              <a:t>-     INNE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66"/>
                </a:solidFill>
                <a:latin typeface="Tahoma"/>
              </a:rPr>
              <a:t>oferty = często projek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1065240" y="2852640"/>
          <a:ext cx="7848720" cy="1203480"/>
        </p:xfrm>
        <a:graphic>
          <a:graphicData uri="http://schemas.openxmlformats.org/drawingml/2006/table">
            <a:tbl>
              <a:tblPr/>
              <a:tblGrid>
                <a:gridCol w="1079640"/>
                <a:gridCol w="6769080"/>
              </a:tblGrid>
              <a:tr h="717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RZL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licencje na szkolen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DGA – firma szkoleniowa z własnym produktem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pleksowe doradztwo H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9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PE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budowanie projektó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000000"/>
                        </a:buClr>
                        <a:buFont typeface="Tahom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kompleksowa obsługa jednostek w oparciu o silne zespoły merytorycz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8" name=""/>
          <p:cNvSpPr/>
          <p:nvPr/>
        </p:nvSpPr>
        <p:spPr>
          <a:xfrm>
            <a:off x="5673600" y="57340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E406-8AC1-4B9A-8F80-54E5A6E8D095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704880" y="1911240"/>
            <a:ext cx="8712000" cy="5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Pion Integracji Europejskiej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39360" y="2460240"/>
            <a:ext cx="870588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Nowe jakości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nowe Spółki Córki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posadowienie Pionu Integracji Europejskiej w Warszawie i ewentualnie w Szczecinie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66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Szanse i zagrożenia dla Pionu w 2005r.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zanse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zespół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łączenie kompetencji (doradztwo + zarządzanie + historia + potencjał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ostępne środki pomocowe w kraju i zagranicą 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Zagrożeni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długa i trudna formuła pozyskiwania zleceń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brak ostatecznych uregulowań dotyczących rozliczeń projektów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lnSpc>
                <a:spcPct val="90000"/>
              </a:lnSpc>
              <a:spcBef>
                <a:spcPts val="400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66"/>
                </a:solidFill>
                <a:latin typeface="Tahoma"/>
              </a:rPr>
              <a:t>bardzo duża konkurencja wśród firm z historią (szkolenia, projekty inżynieryjne)</a:t>
            </a: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1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Szef Pionu (Anna Szymańsk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59F9-7E00-4B23-A0EB-3C63D8151C83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-208080" y="-71280"/>
            <a:ext cx="10160280" cy="70005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776160" y="4579920"/>
            <a:ext cx="8929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Wnioski z analizy struktur firma doradczyc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2400" spc="-1" strike="noStrike">
                <a:solidFill>
                  <a:srgbClr val="000066"/>
                </a:solidFill>
                <a:latin typeface="Tahoma"/>
              </a:rPr>
              <a:t>Andrzej Głowacki</a:t>
            </a: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1281240" y="2781360"/>
          <a:ext cx="1368360" cy="12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81240" y="2781360"/>
                    <a:ext cx="136836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7A80-74E6-4C7A-A50A-A0A854E1DBA3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Program wystąpienia: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776160" y="2509920"/>
            <a:ext cx="806940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I.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Model E&amp;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II. 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Model Dorad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III. 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Model P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IV.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2400" spc="-1" strike="noStrike">
                <a:solidFill>
                  <a:srgbClr val="000066"/>
                </a:solidFill>
                <a:latin typeface="Tahoma"/>
              </a:rPr>
              <a:t>Model D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EE9A-B40D-4B30-889A-97D38904DFE3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I. Model E&amp;Y – TAX: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19" name=""/>
          <p:cNvSpPr/>
          <p:nvPr/>
        </p:nvSpPr>
        <p:spPr>
          <a:xfrm>
            <a:off x="631800" y="2324160"/>
            <a:ext cx="8929800" cy="44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Zasady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Dotychczasowi Partnerzy decydują o przyjęciu Kolejnego Partn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Przyjęcie Partnera jest poprzedzone dwuletnim okresem „próby” – wykonanie planu „rynkowego” i „finansowego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Każdy Partner otrzymuje określoną liczbę punktów, które przenoszą się na wysokość wynagrodzenia i udział w premi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Każdy Partner prowadzi działalność merytoryczną i jest odpowiedzialny za przychody i zysk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D817-AB8C-4D51-80EF-95E2FCC397DF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I. Model E&amp;Y – TAX c.d.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2" name=""/>
          <p:cNvSpPr/>
          <p:nvPr/>
        </p:nvSpPr>
        <p:spPr>
          <a:xfrm>
            <a:off x="560520" y="2276640"/>
            <a:ext cx="8929440" cy="49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Zasady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5. Z grona 9-ciu Partnerów wybierano co dwa lata Partnera Zarządzającego, 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który m.in. dzielił lukratywne projekty – w przypadku sporów.</a:t>
            </a: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6. Zarząd składał się z kilku Partner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7. Partnerem zostaje się po 10-12 lat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8. Partner był w 100% odpowiedzialny za relacje z Klientem, Partner (czasami Senior Manager) akceptował wszystkie dokumenty wychodzące do Kli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9. Kontaktować się z Klientem mogła się tylko osoba   od szczebla Manage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8C68-DEA1-4BFF-9DBA-D5CEDC2FE12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I. Model E&amp;Y – Corporate Finance: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560520" y="2276640"/>
            <a:ext cx="8929440" cy="467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 u="sng">
                <a:solidFill>
                  <a:srgbClr val="000066"/>
                </a:solidFill>
                <a:uFillTx/>
                <a:latin typeface="Tahoma"/>
              </a:rPr>
              <a:t>Zasady</a:t>
            </a: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Team zatrudnia 55-60 osób, dwóch Partnerów, jeden zajmujący się due</a:t>
            </a:r>
            <a:br>
              <a:rPr sz="2000"/>
            </a:b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intelligence, drugi zarządzający i zajmujący się pozostałymi elementami CF</a:t>
            </a:r>
            <a:br>
              <a:rPr sz="2000"/>
            </a:b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  /restrukturyzacje, wyceny, transakcje, itd.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Ścieżka karier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 1 roku – młody Asystent, 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o 2 lat – Asystent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o 3 lat – Starszy Asystent, 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3-6 lat – Kierownik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 6 katach – Manager, 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 7-9 latach – Senior Manager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po 11-12 latach Part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3. Budżety przychodowe od poziomu managera, Partner odpowiedzialny </a:t>
            </a:r>
            <a:br>
              <a:rPr sz="2000"/>
            </a:b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    za przychód i ryne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ECF3-6F3F-42A6-AB05-C4917134964E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04880" y="1557000"/>
            <a:ext cx="871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Wicedyrektor (Robert Rawecki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04880" y="1915920"/>
            <a:ext cx="792000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 Systemów Projektowania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64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2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29400" y="2363760"/>
            <a:ext cx="312372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Proc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861080" y="4092480"/>
            <a:ext cx="504504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0,4 ml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Narzędzia CA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Rynek konsultingow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Rynek rumuński i rosyjsk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Sektor bankow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integracja produktów w ramach inwestycj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36120" y="4164120"/>
            <a:ext cx="1791720" cy="17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KGH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ING Bank Śląski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EnergiaPro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ZCh U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Ś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87641-984D-49DE-A16E-4F70E4F5269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I. Model E&amp;Y – Corporate Finance c.d.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28" name=""/>
          <p:cNvSpPr/>
          <p:nvPr/>
        </p:nvSpPr>
        <p:spPr>
          <a:xfrm>
            <a:off x="560520" y="2276640"/>
            <a:ext cx="8929440" cy="46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Zasady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4.  Kontakt z Klientem od poziomu Manag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5. Wszystkie opracowania akceptowane przez Partnera /wyjątkowo przez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Senior Managera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6. Każde opracowanie kierowane do Klienta jest jako wersja wstępna,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materiał staje się wersją finalną, gdy Klient zakończy proces zgłaszania </a:t>
            </a:r>
            <a:br>
              <a:rPr sz="2000"/>
            </a:b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uwa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7.  Wynagrodzenie osób od poziomu Managera w górę powiązane z wynikam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66"/>
                </a:solidFill>
                <a:latin typeface="Tahoma"/>
              </a:rPr>
              <a:t>i zyskiem Spółki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D658-DE00-4C33-A4C5-FBB11A465FA2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66"/>
                </a:solidFill>
                <a:latin typeface="Tahoma"/>
              </a:rPr>
              <a:t>I. Model E&amp;Y – cechy wspólne: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1" name=""/>
          <p:cNvSpPr/>
          <p:nvPr/>
        </p:nvSpPr>
        <p:spPr>
          <a:xfrm>
            <a:off x="703440" y="2432160"/>
            <a:ext cx="8929440" cy="357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W obu Spółkach nie funkcjonują działy sprzedaży, jednak wszyscy </a:t>
            </a:r>
            <a:br>
              <a:rPr sz="2000"/>
            </a:b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/od Asystenta do Partnera/ są „uczeni” dbałości o Klienta i promowania usług E&amp;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Zlecenia są pozyskiwane z bardzo różny sposób, począwszy od licznych szkoleń, poprzez prezentacje u klienta, kontakty osobiste, it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Odejście Partnera odbywa się w drodze negocjacji – celem nadrzędnym jest zachowanie dobrego wizerunku w oczach Klie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Struktury pionowe – do max 3-5 osób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1739-8B1D-4D46-9F80-83D180689589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17120" y="1484280"/>
            <a:ext cx="8915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I. Model Doradca: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34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76160" y="3141720"/>
            <a:ext cx="1800360" cy="647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Zespół Wsparcia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Konsulting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089240" y="3141720"/>
            <a:ext cx="1800360" cy="647640"/>
          </a:xfrm>
          <a:prstGeom prst="rect">
            <a:avLst/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Zespół Organizacji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Sprzedaż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545240" y="3141720"/>
            <a:ext cx="1800360" cy="64764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Wsparcie 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Administracj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089240" y="2349360"/>
            <a:ext cx="180036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Zarzą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711440" y="2924280"/>
            <a:ext cx="6626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33760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17114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4968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1711440" y="292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952880" y="27097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5" name=""/>
          <p:cNvGraphicFramePr/>
          <p:nvPr/>
        </p:nvGraphicFramePr>
        <p:xfrm>
          <a:off x="495360" y="4384800"/>
          <a:ext cx="8915400" cy="1795320"/>
        </p:xfrm>
        <a:graphic>
          <a:graphicData uri="http://schemas.openxmlformats.org/drawingml/2006/table">
            <a:tbl>
              <a:tblPr/>
              <a:tblGrid>
                <a:gridCol w="1289160"/>
                <a:gridCol w="1682640"/>
                <a:gridCol w="1485720"/>
                <a:gridCol w="1486080"/>
                <a:gridCol w="1485720"/>
                <a:gridCol w="148608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</a:rPr>
                        <a:t>           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Obsza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roduk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Energety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ali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Telekomunik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Administrac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Bank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i finans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TS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rodukt 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rodukt 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rodukt II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rodukt IV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6" name=""/>
          <p:cNvSpPr/>
          <p:nvPr/>
        </p:nvSpPr>
        <p:spPr>
          <a:xfrm>
            <a:off x="495360" y="4384800"/>
            <a:ext cx="128916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3224160" y="2924280"/>
            <a:ext cx="0" cy="1460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1672-B88C-462E-8865-1B223A9CE2A6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717120" y="1484280"/>
            <a:ext cx="8915400" cy="8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II. Model PWC: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49" name=""/>
          <p:cNvSpPr/>
          <p:nvPr/>
        </p:nvSpPr>
        <p:spPr>
          <a:xfrm>
            <a:off x="171144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496880" y="2997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495360" y="2492280"/>
            <a:ext cx="8915400" cy="360360"/>
          </a:xfrm>
          <a:prstGeom prst="rect">
            <a:avLst/>
          </a:prstGeom>
          <a:solidFill>
            <a:srgbClr val="33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PART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2" name=""/>
          <p:cNvGraphicFramePr/>
          <p:nvPr/>
        </p:nvGraphicFramePr>
        <p:xfrm>
          <a:off x="495360" y="3176640"/>
          <a:ext cx="8915400" cy="3205080"/>
        </p:xfrm>
        <a:graphic>
          <a:graphicData uri="http://schemas.openxmlformats.org/drawingml/2006/table">
            <a:tbl>
              <a:tblPr/>
              <a:tblGrid>
                <a:gridCol w="2228760"/>
                <a:gridCol w="2228760"/>
                <a:gridCol w="2229120"/>
                <a:gridCol w="222876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Obszar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rodukty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Energ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i paliw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Logistyk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i transp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PPP + 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TAX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AUDY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CF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- wyceny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- restrukturyzacja,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- restrukturyzacja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biznesowa,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66"/>
                          </a:solidFill>
                          <a:latin typeface="Tahoma"/>
                          <a:ea typeface="Times New Roman"/>
                        </a:rPr>
                        <a:t>- modele finansow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3" name=""/>
          <p:cNvSpPr/>
          <p:nvPr/>
        </p:nvSpPr>
        <p:spPr>
          <a:xfrm>
            <a:off x="495360" y="3176640"/>
            <a:ext cx="2228760" cy="455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952880" y="2852640"/>
            <a:ext cx="0" cy="3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3694-DDCE-42DF-A340-697721343D00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704520" y="1557360"/>
            <a:ext cx="8140680" cy="68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IV. Model DGA</a:t>
            </a:r>
            <a:endParaRPr b="1" lang="en-US" sz="24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356" name=""/>
          <p:cNvSpPr/>
          <p:nvPr/>
        </p:nvSpPr>
        <p:spPr>
          <a:xfrm>
            <a:off x="631800" y="2498760"/>
            <a:ext cx="9274320" cy="33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Oczekiwania wobec przewidywanych zmian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Bardziej czytelne postrzeganie DGA przez Klienta /Grupa multidyscyplinarna/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Lepszy przepływ informacji w ramach DG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Czytelni opiekunowie produkt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5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66"/>
                </a:solidFill>
                <a:latin typeface="Tahoma"/>
              </a:rPr>
              <a:t>Lepszy nadzór nad realizacją projektów i ich efektywności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84360" y="24861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C00B-15B1-4E6F-9841-C3EAA2DEE218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-208080" y="-100080"/>
            <a:ext cx="10160280" cy="7000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9" name=""/>
          <p:cNvGraphicFramePr/>
          <p:nvPr/>
        </p:nvGraphicFramePr>
        <p:xfrm>
          <a:off x="1251000" y="2766960"/>
          <a:ext cx="1368360" cy="1279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1000" y="2766960"/>
                    <a:ext cx="1368360" cy="127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1" name=""/>
          <p:cNvSpPr/>
          <p:nvPr/>
        </p:nvSpPr>
        <p:spPr>
          <a:xfrm>
            <a:off x="776160" y="4581360"/>
            <a:ext cx="912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63972"/>
                </a:solidFill>
                <a:latin typeface="Tahoma"/>
              </a:rPr>
              <a:t>Serdecznie dziękuję za udział w prezentacji i wysłuchani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648D-221A-47E4-8233-A8089C1DBF1D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576000" y="1699920"/>
            <a:ext cx="9489960" cy="43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900" spc="-1" strike="noStrike">
                <a:solidFill>
                  <a:srgbClr val="000066"/>
                </a:solidFill>
                <a:latin typeface="Tahoma"/>
              </a:rPr>
              <a:t>Zespół Systemów Zarządzania Informacją Elektroniczną (Kajetan Rogalski)</a:t>
            </a: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  <a:p>
            <a:pPr marL="3430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73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5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41480" y="2363760"/>
            <a:ext cx="53269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Workflo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DGA Urzą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rodzina produktów Lotus (Workflow, Archiwum, Kancelari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861080" y="4092480"/>
            <a:ext cx="5045040" cy="23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1,6 ml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DGA Archiwu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obecni klienci DG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administracja publicz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66"/>
                </a:solidFill>
                <a:latin typeface="Tahoma"/>
              </a:rPr>
              <a:t>Integracja oprogramowania DGA !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Rozwój produk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49000" y="4164120"/>
            <a:ext cx="3342600" cy="210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rząd Miasta Poznan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Sanit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PZ Cuss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Urząd Miasta Koszali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Zakłady Chemiczne Luboń Sp. z o.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Centralny Instytut Ochrony Prac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MPWiK Wrocła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B0599-6FF5-48A3-9A8F-10C222DA208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704520" y="1699920"/>
            <a:ext cx="920124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66"/>
                </a:solidFill>
                <a:latin typeface="Tahoma"/>
              </a:rPr>
              <a:t>Zespół Systemów Analizy Informacji (Andrzej Tuchołka)</a:t>
            </a:r>
            <a:endParaRPr b="0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82" name=""/>
          <p:cNvSpPr/>
          <p:nvPr/>
        </p:nvSpPr>
        <p:spPr>
          <a:xfrm>
            <a:off x="4737240" y="2349360"/>
            <a:ext cx="0" cy="403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72880" y="4076640"/>
            <a:ext cx="892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52800" y="2363760"/>
            <a:ext cx="30348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Zespół:</a:t>
            </a:r>
            <a:r>
              <a:rPr b="1" lang="en-US" sz="1800" spc="-1" strike="noStrike" u="sng">
                <a:solidFill>
                  <a:srgbClr val="000066"/>
                </a:solidFill>
                <a:uFillTx/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4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i="1" lang="en-US" sz="1800" spc="-1" strike="noStrike">
                <a:solidFill>
                  <a:srgbClr val="000066"/>
                </a:solidFill>
                <a:latin typeface="Tahoma"/>
              </a:rPr>
              <a:t>20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6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1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	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 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66"/>
                </a:solidFill>
                <a:latin typeface="Tahoma"/>
              </a:rPr>
              <a:t>/powyżej 3 lat doświadczenia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136520" y="335772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36520" y="3645000"/>
            <a:ext cx="1440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829400" y="2363760"/>
            <a:ext cx="3123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Oferta /usługi, produkty/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BS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Control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Qu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Lear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DGA 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861080" y="4092480"/>
            <a:ext cx="504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Rok 2005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rzychód planowany – 1,5 mln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nowe produkty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Zarządzanie projektam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Rozwój linii Sec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nowi Klienci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firmy konsultingow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i="1" lang="pl-PL" sz="1400" spc="-1" strike="noStrike">
                <a:solidFill>
                  <a:srgbClr val="000066"/>
                </a:solidFill>
                <a:latin typeface="Tahoma"/>
              </a:rPr>
              <a:t>klienci innych firm konsultingowy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rozszerzenie oferty produktowej dla obecnych klient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66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integracja produkt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6120" y="4164120"/>
            <a:ext cx="1791720" cy="143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66"/>
                </a:solidFill>
                <a:latin typeface="Tahoma"/>
              </a:rPr>
              <a:t>Klienci dzisiaj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Cemet, Aquan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Belma, Krakodl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ELTUR, EN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66"/>
                </a:solidFill>
                <a:latin typeface="Tahoma"/>
              </a:rPr>
              <a:t>- PCBC, UOKiK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53B42-04B7-4EBE-BE4E-A9E9501B30C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673600" y="5300640"/>
            <a:ext cx="657360" cy="9842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5313240" y="5300640"/>
            <a:ext cx="657360" cy="98424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31440" y="1557000"/>
            <a:ext cx="871236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Marcin Makowski)</a:t>
            </a:r>
            <a:endParaRPr b="1" lang="en-US" sz="20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31800" y="1988640"/>
            <a:ext cx="7129440" cy="39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duktów Informatycznych (1)</a:t>
            </a:r>
            <a:endParaRPr b="0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8048520" y="2708280"/>
            <a:ext cx="1086120" cy="12715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57080" y="2548080"/>
            <a:ext cx="88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1. Nowe produkty – Podsumow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ystem zarządzania projekt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Realizacja inwestycji związanej z integracją produktów D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Systemy zarządzania infrastrukturą informatyczn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0520" y="5445000"/>
            <a:ext cx="880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3. Lokalizacja Konsultantów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Poznań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Moskw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360520" y="3716280"/>
            <a:ext cx="88045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2. Nowi Klienci – Podsumowanie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lienci w zakresie produktów informatycznych (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Arial"/>
              </a:rPr>
              <a:t>Klienci działów merytorycznych DGA (4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Klienci partnerów (20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4"/>
          <a:stretch/>
        </p:blipFill>
        <p:spPr>
          <a:xfrm>
            <a:off x="4665600" y="5300640"/>
            <a:ext cx="657360" cy="98424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5"/>
          <a:stretch/>
        </p:blipFill>
        <p:spPr>
          <a:xfrm>
            <a:off x="5024520" y="5445000"/>
            <a:ext cx="657000" cy="98424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6"/>
          <a:stretch/>
        </p:blipFill>
        <p:spPr>
          <a:xfrm>
            <a:off x="5457960" y="5516640"/>
            <a:ext cx="657000" cy="98424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7"/>
          <a:stretch/>
        </p:blipFill>
        <p:spPr>
          <a:xfrm>
            <a:off x="5816520" y="5516640"/>
            <a:ext cx="657360" cy="984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8"/>
          <a:stretch/>
        </p:blipFill>
        <p:spPr>
          <a:xfrm>
            <a:off x="849240" y="3860640"/>
            <a:ext cx="1195560" cy="1594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2464A-55B9-4C8F-83FA-3939FD4614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4880" y="1915920"/>
            <a:ext cx="871200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66"/>
                </a:solidFill>
                <a:latin typeface="Tahoma"/>
              </a:rPr>
              <a:t>Departament Produktów Informatycznych (2)</a:t>
            </a:r>
            <a:endParaRPr b="1" lang="en-US" sz="1800" spc="-1" strike="noStrike">
              <a:solidFill>
                <a:srgbClr val="000066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04520" y="4581000"/>
            <a:ext cx="6264360" cy="154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ahoma"/>
              </a:rPr>
              <a:t>5. Tematy wymagające sanacji: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Zatrudnienie osób do pracy nad integracją produktów informatycznych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Ustalenie zakresu współpracy z innymi zespołami IT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-343080">
              <a:spcBef>
                <a:spcPts val="349"/>
              </a:spcBef>
              <a:buClr>
                <a:srgbClr val="000066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Tahoma"/>
              </a:rPr>
              <a:t>Określenie zakresu odpowiedzialności za produkty informatyczne zespołów merytorycznych w ramach DGA</a:t>
            </a: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  <a:p>
            <a:pPr lvl="1" marL="8002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66"/>
              </a:solidFill>
              <a:latin typeface="Tahom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897600" y="4508640"/>
            <a:ext cx="2879640" cy="19191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704880" y="1557360"/>
            <a:ext cx="8712000" cy="5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66"/>
                </a:solidFill>
                <a:latin typeface="Tahoma"/>
              </a:rPr>
              <a:t>Dyrektor (Marcin Makowsk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008160" y="2421000"/>
            <a:ext cx="612000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66"/>
                </a:solidFill>
                <a:latin typeface="Tahoma"/>
              </a:rPr>
              <a:t>4. Akcje promocyj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Uruchomienie strony wsparcia dla klientów i partnerów, w tym sprzedaż oprogramowania przez intern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Mailing do zagranicznych firm konsultingowy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ahoma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600" spc="-1" strike="noStrike">
                <a:solidFill>
                  <a:srgbClr val="000066"/>
                </a:solidFill>
                <a:latin typeface="Tahoma"/>
              </a:rPr>
              <a:t>Działalność w ramach stowarzyszenia XPri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992160" y="2492280"/>
            <a:ext cx="1440000" cy="1920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33DC9-39C8-4740-B831-8D51AE16B1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5T08:25:45Z</dcterms:created>
  <dc:creator>b_szefer</dc:creator>
  <dc:description/>
  <dc:language>en-US</dc:language>
  <cp:lastModifiedBy>a_czub</cp:lastModifiedBy>
  <dcterms:modified xsi:type="dcterms:W3CDTF">2005-01-20T13:30:55Z</dcterms:modified>
  <cp:revision>28</cp:revision>
  <dc:subject/>
  <dc:title>Slajd 1</dc:title>
</cp:coreProperties>
</file>